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D7DE-53E5-4F03-A106-1F01C8764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4C96-7E45-4B6E-9EC8-59E2CD1CB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1086-AF23-433B-8E39-4FAF286C8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B726-09F2-4E94-B29B-1C29F1EA6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8E837-406B-4162-B4D2-AADB9ED4E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DFF65-ACE6-4734-A6D7-01996C0AB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CDF8F-7647-4B73-9BD0-BDF39EB5A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A4A41-8E26-4292-A4AB-C16208874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5DF8B-57C9-4348-8216-EB765AC05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626C4-0B91-4A6F-8785-B41962382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19520-538D-4C4E-96D3-E59C94C96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4EA9-EFDC-4EE1-BC33-CD0110764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4BF37-F036-4869-8A5E-1614B110E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29A9B-8652-4674-A27F-E5FD11D5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3529D-1FD4-42E2-AA00-9D52DA116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7E22B-2878-4E34-9B61-5AF202947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212BF-0EAD-4C56-951B-0AAE2BA32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B7D1-003F-4BF4-9B7E-049D714C4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76D2-B33C-4D3F-8E79-FB24FDD40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A6AD-12FC-4863-A577-A53F7F898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53BE-A1E5-4722-987F-EE0F0880D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35DA-D83F-4F73-8689-F0631671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7031-31C7-40B2-A727-25EC2B40C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ACEC-5F28-48C1-919B-EF277494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7D730-2CC1-4714-9158-7377011C55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R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80A12-245E-4772-BAF6-F6CC41ACF5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2410920" y="5516640"/>
            <a:ext cx="4529160" cy="103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проф. др Владимир Живкови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2329200" y="1262160"/>
            <a:ext cx="442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Интегрисане академске студије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медицин</a:t>
            </a: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СПОРТСКА МЕДИЦ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0" y="256536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. наставна јединица (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једанаест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а недеља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ПОРТСКА КАРДИОЛОГ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835280" y="333360"/>
            <a:ext cx="532908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468360" y="2060640"/>
            <a:ext cx="799128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b050"/>
                </a:solidFill>
                <a:latin typeface="Calibri"/>
              </a:rPr>
              <a:t>Ехокардиографијом</a:t>
            </a:r>
            <a:r>
              <a:rPr b="1" lang="sr-Latn-RS" sz="2400" spc="-1" strike="noStrike">
                <a:solidFill>
                  <a:srgbClr val="00b050"/>
                </a:solidFill>
                <a:latin typeface="Calibri"/>
              </a:rPr>
              <a:t> (</a:t>
            </a:r>
            <a:r>
              <a:rPr b="1" lang="sr-RS" sz="2400" spc="-1" strike="noStrike">
                <a:solidFill>
                  <a:srgbClr val="00b050"/>
                </a:solidFill>
                <a:latin typeface="Calibri"/>
              </a:rPr>
              <a:t>ултразвуком</a:t>
            </a:r>
            <a:r>
              <a:rPr b="1" lang="sr-Latn-RS" sz="24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b050"/>
                </a:solidFill>
                <a:latin typeface="Calibri"/>
              </a:rPr>
              <a:t>срца</a:t>
            </a:r>
            <a:r>
              <a:rPr b="1" lang="sr-Latn-RS" sz="2400" spc="-1" strike="noStrike">
                <a:solidFill>
                  <a:srgbClr val="00b050"/>
                </a:solidFill>
                <a:latin typeface="Calibri"/>
              </a:rPr>
              <a:t>)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рати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анатомиј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рц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облик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величин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рчаних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шупљин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залистак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јачин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рчаних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контракциј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b050"/>
                </a:solidFill>
                <a:latin typeface="Calibri"/>
              </a:rPr>
              <a:t>Ергометријом</a:t>
            </a:r>
            <a:r>
              <a:rPr b="1" lang="sr-Latn-RS" sz="2400" spc="-1" strike="noStrike">
                <a:solidFill>
                  <a:srgbClr val="00b050"/>
                </a:solidFill>
                <a:latin typeface="Calibri"/>
              </a:rPr>
              <a:t> (</a:t>
            </a:r>
            <a:r>
              <a:rPr b="1" lang="sr-RS" sz="2400" spc="-1" strike="noStrike">
                <a:solidFill>
                  <a:srgbClr val="00b050"/>
                </a:solidFill>
                <a:latin typeface="Calibri"/>
              </a:rPr>
              <a:t>тестом</a:t>
            </a:r>
            <a:r>
              <a:rPr b="1" lang="sr-Latn-RS" sz="24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b050"/>
                </a:solidFill>
                <a:latin typeface="Calibri"/>
              </a:rPr>
              <a:t>оптерећења</a:t>
            </a:r>
            <a:r>
              <a:rPr b="1" lang="sr-Latn-RS" sz="2400" spc="-1" strike="noStrike">
                <a:solidFill>
                  <a:srgbClr val="00b050"/>
                </a:solidFill>
                <a:latin typeface="Calibri"/>
              </a:rPr>
              <a:t>)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рати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функциј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рц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односно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његов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пособност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умп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довољно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крви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циркулацију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одређеном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физичком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напору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b050"/>
                </a:solidFill>
                <a:latin typeface="Calibri"/>
              </a:rPr>
              <a:t>Холтером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утврђује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број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карактер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рчаних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контракциј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континуираним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раћењем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току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24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ат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b050"/>
                </a:solidFill>
                <a:latin typeface="Calibri"/>
              </a:rPr>
              <a:t>Магнетном</a:t>
            </a:r>
            <a:r>
              <a:rPr b="1" lang="sr-Latn-RS" sz="24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b050"/>
                </a:solidFill>
                <a:latin typeface="Calibri"/>
              </a:rPr>
              <a:t>резонанцом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утврђује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најфиниј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грађ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рц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826920" y="907920"/>
            <a:ext cx="718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Дијагностика</a:t>
            </a:r>
            <a:r>
              <a:rPr b="1" lang="sr-Latn-R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спортског</a:t>
            </a:r>
            <a:r>
              <a:rPr b="1" lang="sr-Latn-R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срца</a:t>
            </a:r>
            <a:r>
              <a:rPr b="1" lang="sr-Latn-R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sr-Latn-RS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миокардиопат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395280" y="1700280"/>
            <a:ext cx="813744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 u="sng">
                <a:solidFill>
                  <a:srgbClr val="000000"/>
                </a:solidFill>
                <a:uFillTx/>
                <a:latin typeface="Calibri"/>
              </a:rPr>
              <a:t>То</a:t>
            </a:r>
            <a:r>
              <a:rPr b="1" lang="sr-Latn-R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sr-RS" sz="2400" spc="-1" strike="noStrike" u="sng">
                <a:solidFill>
                  <a:srgbClr val="000000"/>
                </a:solidFill>
                <a:uFillTx/>
                <a:latin typeface="Calibri"/>
              </a:rPr>
              <a:t>је</a:t>
            </a:r>
            <a:r>
              <a:rPr b="1" lang="sr-Latn-R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sr-RS" sz="2400" spc="-1" strike="noStrike" u="sng">
                <a:solidFill>
                  <a:srgbClr val="000000"/>
                </a:solidFill>
                <a:uFillTx/>
                <a:latin typeface="Calibri"/>
              </a:rPr>
              <a:t>слабост</a:t>
            </a:r>
            <a:r>
              <a:rPr b="1" lang="sr-Latn-R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sr-RS" sz="2400" spc="-1" strike="noStrike" u="sng">
                <a:solidFill>
                  <a:srgbClr val="000000"/>
                </a:solidFill>
                <a:uFillTx/>
                <a:latin typeface="Calibri"/>
              </a:rPr>
              <a:t>срца</a:t>
            </a:r>
            <a:r>
              <a:rPr b="1" lang="sr-Latn-R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sr-RS" sz="2400" spc="-1" strike="noStrike" u="sng">
                <a:solidFill>
                  <a:srgbClr val="000000"/>
                </a:solidFill>
                <a:uFillTx/>
                <a:latin typeface="Calibri"/>
              </a:rPr>
              <a:t>са</a:t>
            </a:r>
            <a:r>
              <a:rPr b="1" lang="sr-Latn-R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sr-RS" sz="2400" spc="-1" strike="noStrike" u="sng">
                <a:solidFill>
                  <a:srgbClr val="000000"/>
                </a:solidFill>
                <a:uFillTx/>
                <a:latin typeface="Calibri"/>
              </a:rPr>
              <a:t>недовољном</a:t>
            </a:r>
            <a:r>
              <a:rPr b="1" lang="sr-Latn-R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sr-RS" sz="2400" spc="-1" strike="noStrike" u="sng">
                <a:solidFill>
                  <a:srgbClr val="000000"/>
                </a:solidFill>
                <a:uFillTx/>
                <a:latin typeface="Calibri"/>
              </a:rPr>
              <a:t>функцијом</a:t>
            </a:r>
            <a:r>
              <a:rPr b="1" lang="sr-Latn-RS" sz="2400" spc="-1" strike="noStrike" u="sng">
                <a:solidFill>
                  <a:srgbClr val="000000"/>
                </a:solidFill>
                <a:uFillTx/>
                <a:latin typeface="Calibri"/>
              </a:rPr>
              <a:t>, </a:t>
            </a:r>
            <a:r>
              <a:rPr b="1" lang="sr-RS" sz="2400" spc="-1" strike="noStrike" u="sng">
                <a:solidFill>
                  <a:srgbClr val="000000"/>
                </a:solidFill>
                <a:uFillTx/>
                <a:latin typeface="Calibri"/>
              </a:rPr>
              <a:t>а</a:t>
            </a:r>
            <a:r>
              <a:rPr b="1" lang="sr-Latn-R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sr-RS" sz="2400" spc="-1" strike="noStrike" u="sng">
                <a:solidFill>
                  <a:srgbClr val="000000"/>
                </a:solidFill>
                <a:uFillTx/>
                <a:latin typeface="Calibri"/>
              </a:rPr>
              <a:t>карактерише</a:t>
            </a:r>
            <a:r>
              <a:rPr b="1" lang="sr-Latn-R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sr-RS" sz="2400" spc="-1" strike="noStrike" u="sng">
                <a:solidFill>
                  <a:srgbClr val="000000"/>
                </a:solidFill>
                <a:uFillTx/>
                <a:latin typeface="Calibri"/>
              </a:rPr>
              <a:t>је</a:t>
            </a:r>
            <a:r>
              <a:rPr b="1" lang="sr-Latn-R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sr-RS" sz="2400" spc="-1" strike="noStrike" u="sng">
                <a:solidFill>
                  <a:srgbClr val="ff0000"/>
                </a:solidFill>
                <a:uFillTx/>
                <a:latin typeface="Calibri"/>
              </a:rPr>
              <a:t>проширење</a:t>
            </a:r>
            <a:r>
              <a:rPr b="1" lang="sr-Latn-R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sr-RS" sz="2400" spc="-1" strike="noStrike" u="sng">
                <a:solidFill>
                  <a:srgbClr val="000000"/>
                </a:solidFill>
                <a:uFillTx/>
                <a:latin typeface="Calibri"/>
              </a:rPr>
              <a:t>леве</a:t>
            </a:r>
            <a:r>
              <a:rPr b="1" lang="sr-Latn-R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sr-RS" sz="2400" spc="-1" strike="noStrike" u="sng">
                <a:solidFill>
                  <a:srgbClr val="000000"/>
                </a:solidFill>
                <a:uFillTx/>
                <a:latin typeface="Calibri"/>
              </a:rPr>
              <a:t>и</a:t>
            </a:r>
            <a:r>
              <a:rPr b="1" lang="sr-Latn-RS" sz="2400" spc="-1" strike="noStrike" u="sng">
                <a:solidFill>
                  <a:srgbClr val="000000"/>
                </a:solidFill>
                <a:uFillTx/>
                <a:latin typeface="Calibri"/>
              </a:rPr>
              <a:t>/</a:t>
            </a:r>
            <a:r>
              <a:rPr b="1" lang="sr-RS" sz="2400" spc="-1" strike="noStrike" u="sng">
                <a:solidFill>
                  <a:srgbClr val="000000"/>
                </a:solidFill>
                <a:uFillTx/>
                <a:latin typeface="Calibri"/>
              </a:rPr>
              <a:t>или</a:t>
            </a:r>
            <a:r>
              <a:rPr b="1" lang="sr-Latn-R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sr-RS" sz="2400" spc="-1" strike="noStrike" u="sng">
                <a:solidFill>
                  <a:srgbClr val="000000"/>
                </a:solidFill>
                <a:uFillTx/>
                <a:latin typeface="Calibri"/>
              </a:rPr>
              <a:t>десне</a:t>
            </a:r>
            <a:r>
              <a:rPr b="1" lang="sr-Latn-R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sr-RS" sz="2400" spc="-1" strike="noStrike" u="sng">
                <a:solidFill>
                  <a:srgbClr val="000000"/>
                </a:solidFill>
                <a:uFillTx/>
                <a:latin typeface="Calibri"/>
              </a:rPr>
              <a:t>срчане</a:t>
            </a:r>
            <a:r>
              <a:rPr b="1" lang="sr-Latn-R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sr-RS" sz="2400" spc="-1" strike="noStrike" u="sng">
                <a:solidFill>
                  <a:srgbClr val="000000"/>
                </a:solidFill>
                <a:uFillTx/>
                <a:latin typeface="Calibri"/>
              </a:rPr>
              <a:t>коморе</a:t>
            </a:r>
            <a:r>
              <a:rPr b="1" lang="sr-Latn-RS" sz="2400" spc="-1" strike="noStrike" u="sng">
                <a:solidFill>
                  <a:srgbClr val="000000"/>
                </a:solidFill>
                <a:uFillTx/>
                <a:latin typeface="Calibri"/>
              </a:rPr>
              <a:t>, </a:t>
            </a:r>
            <a:r>
              <a:rPr b="1" lang="sr-RS" sz="2400" spc="-1" strike="noStrike" u="sng">
                <a:solidFill>
                  <a:srgbClr val="000000"/>
                </a:solidFill>
                <a:uFillTx/>
                <a:latin typeface="Calibri"/>
              </a:rPr>
              <a:t>стањење</a:t>
            </a:r>
            <a:r>
              <a:rPr b="1" lang="sr-Latn-R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sr-RS" sz="2400" spc="-1" strike="noStrike" u="sng">
                <a:solidFill>
                  <a:srgbClr val="000000"/>
                </a:solidFill>
                <a:uFillTx/>
                <a:latin typeface="Calibri"/>
              </a:rPr>
              <a:t>зида</a:t>
            </a:r>
            <a:r>
              <a:rPr b="1" lang="sr-Latn-R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sr-RS" sz="2400" spc="-1" strike="noStrike" u="sng">
                <a:solidFill>
                  <a:srgbClr val="000000"/>
                </a:solidFill>
                <a:uFillTx/>
                <a:latin typeface="Calibri"/>
              </a:rPr>
              <a:t>срчаних</a:t>
            </a:r>
            <a:r>
              <a:rPr b="1" lang="sr-Latn-R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sr-RS" sz="2400" spc="-1" strike="noStrike" u="sng">
                <a:solidFill>
                  <a:srgbClr val="000000"/>
                </a:solidFill>
                <a:uFillTx/>
                <a:latin typeface="Calibri"/>
              </a:rPr>
              <a:t>шупљина</a:t>
            </a:r>
            <a:r>
              <a:rPr b="1" lang="sr-Latn-R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sr-RS" sz="2400" spc="-1" strike="noStrike" u="sng">
                <a:solidFill>
                  <a:srgbClr val="000000"/>
                </a:solidFill>
                <a:uFillTx/>
                <a:latin typeface="Calibri"/>
              </a:rPr>
              <a:t>и</a:t>
            </a:r>
            <a:r>
              <a:rPr b="1" lang="sr-Latn-R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sr-RS" sz="2400" spc="-1" strike="noStrike" u="sng">
                <a:solidFill>
                  <a:srgbClr val="000000"/>
                </a:solidFill>
                <a:uFillTx/>
                <a:latin typeface="Calibri"/>
              </a:rPr>
              <a:t>смањење</a:t>
            </a:r>
            <a:r>
              <a:rPr b="1" lang="sr-Latn-R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sr-RS" sz="2400" spc="-1" strike="noStrike" u="sng">
                <a:solidFill>
                  <a:srgbClr val="000000"/>
                </a:solidFill>
                <a:uFillTx/>
                <a:latin typeface="Calibri"/>
              </a:rPr>
              <a:t>снаге</a:t>
            </a:r>
            <a:r>
              <a:rPr b="1" lang="sr-Latn-R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sr-RS" sz="2400" spc="-1" strike="noStrike" u="sng">
                <a:solidFill>
                  <a:srgbClr val="000000"/>
                </a:solidFill>
                <a:uFillTx/>
                <a:latin typeface="Calibri"/>
              </a:rPr>
              <a:t>срца</a:t>
            </a:r>
            <a:r>
              <a:rPr b="1" lang="sr-Latn-R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sr-RS" sz="2400" spc="-1" strike="noStrike" u="sng">
                <a:solidFill>
                  <a:srgbClr val="000000"/>
                </a:solidFill>
                <a:uFillTx/>
                <a:latin typeface="Calibri"/>
              </a:rPr>
              <a:t>за</a:t>
            </a:r>
            <a:r>
              <a:rPr b="1" lang="sr-Latn-R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sr-RS" sz="2400" spc="-1" strike="noStrike" u="sng">
                <a:solidFill>
                  <a:srgbClr val="000000"/>
                </a:solidFill>
                <a:uFillTx/>
                <a:latin typeface="Calibri"/>
              </a:rPr>
              <a:t>пумпање</a:t>
            </a:r>
            <a:r>
              <a:rPr b="1" lang="sr-Latn-R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sr-RS" sz="2400" spc="-1" strike="noStrike" u="sng">
                <a:solidFill>
                  <a:srgbClr val="000000"/>
                </a:solidFill>
                <a:uFillTx/>
                <a:latin typeface="Calibri"/>
              </a:rPr>
              <a:t>крви</a:t>
            </a:r>
            <a:r>
              <a:rPr b="1" lang="sr-Latn-RS" sz="2400" spc="-1" strike="noStrike" u="sng">
                <a:solidFill>
                  <a:srgbClr val="000000"/>
                </a:solidFill>
                <a:uFillTx/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овећан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запремин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рц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мањен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дебљине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рчаног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мишић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Због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тог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рце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лабије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наге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није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могућности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умп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довољну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количину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крви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би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особ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бавил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портом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нормално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функционисал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Више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крви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остаје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рцу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мање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испумп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течност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накупљ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лућим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826920" y="476280"/>
            <a:ext cx="71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Дилатативна</a:t>
            </a:r>
            <a:r>
              <a:rPr b="1" lang="sr-Latn-R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миокардиопат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0" y="2060640"/>
            <a:ext cx="878508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28600" indent="-228600"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0000"/>
                </a:solidFill>
                <a:latin typeface="Calibri"/>
              </a:rPr>
              <a:t>Узроци</a:t>
            </a:r>
            <a:r>
              <a:rPr b="1" lang="sr-Latn-R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ff0000"/>
                </a:solidFill>
                <a:latin typeface="Calibri"/>
              </a:rPr>
              <a:t>настајања</a:t>
            </a:r>
            <a:r>
              <a:rPr b="1" lang="sr-Latn-R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ff0000"/>
                </a:solidFill>
                <a:latin typeface="Calibri"/>
              </a:rPr>
              <a:t>дилатативне</a:t>
            </a:r>
            <a:r>
              <a:rPr b="1" lang="sr-Latn-R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ff0000"/>
                </a:solidFill>
                <a:latin typeface="Calibri"/>
              </a:rPr>
              <a:t>миокардиопатије</a:t>
            </a:r>
            <a:r>
              <a:rPr b="1" lang="sr-Latn-R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ff0000"/>
                </a:solidFill>
                <a:latin typeface="Calibri"/>
              </a:rPr>
              <a:t>су</a:t>
            </a:r>
            <a:r>
              <a:rPr b="1" lang="sr-Latn-RS" sz="2400" spc="-1" strike="noStrike">
                <a:solidFill>
                  <a:srgbClr val="ff0000"/>
                </a:solidFill>
                <a:latin typeface="Calibri"/>
              </a:rPr>
              <a:t>: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миокардитис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генетск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редиспозициј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коронарн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болест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ангин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екторис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инфаркт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рц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хронични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алкохолизам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826920" y="765000"/>
            <a:ext cx="71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Дилатативна</a:t>
            </a:r>
            <a:r>
              <a:rPr b="1" lang="sr-Latn-R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миокардиопат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954000" y="1557360"/>
            <a:ext cx="702144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826920" y="836640"/>
            <a:ext cx="718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0000"/>
                </a:solidFill>
                <a:latin typeface="Arial"/>
              </a:rPr>
              <a:t>Дилатативна</a:t>
            </a:r>
            <a:r>
              <a:rPr b="1" lang="sr-Latn-R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0000"/>
                </a:solidFill>
                <a:latin typeface="Arial"/>
              </a:rPr>
              <a:t>миокардиопат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468360" y="1879560"/>
            <a:ext cx="7775640" cy="4425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468360" y="1989000"/>
            <a:ext cx="799128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Бол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грудим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тежано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дисање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Вртоглавиц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Губитак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вести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Некад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рви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имптом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атолошког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роширењ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леве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рчане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коморе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– 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изненадн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рчан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мрт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90000"/>
              </a:lnSpc>
              <a:spcBef>
                <a:spcPts val="10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c00000"/>
                </a:solidFill>
                <a:latin typeface="Calibri"/>
              </a:rPr>
              <a:t>Преглед</a:t>
            </a:r>
            <a:r>
              <a:rPr b="1" lang="sr-Latn-RS" sz="2400" spc="-1" strike="noStrike">
                <a:solidFill>
                  <a:srgbClr val="c00000"/>
                </a:solidFill>
                <a:latin typeface="Calibri"/>
              </a:rPr>
              <a:t>  </a:t>
            </a:r>
            <a:r>
              <a:rPr b="1" lang="sr-RS" sz="2400" spc="-1" strike="noStrike">
                <a:solidFill>
                  <a:srgbClr val="c00000"/>
                </a:solidFill>
                <a:latin typeface="Calibri"/>
              </a:rPr>
              <a:t>лекара</a:t>
            </a:r>
            <a:r>
              <a:rPr b="1" lang="sr-Latn-RS" sz="2400" spc="-1" strike="noStrike">
                <a:solidFill>
                  <a:srgbClr val="c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Аускултује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шум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рцу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Ултразвук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рц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атолошко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задебљање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истањеност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зид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леве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коморе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рчане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реграде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"/>
          <p:cNvSpPr/>
          <p:nvPr/>
        </p:nvSpPr>
        <p:spPr>
          <a:xfrm>
            <a:off x="324000" y="69228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Миокардиопатија</a:t>
            </a:r>
            <a:r>
              <a:rPr b="1" lang="sr-Latn-RS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 симптоми</a:t>
            </a:r>
            <a:r>
              <a:rPr b="1" lang="sr-Latn-R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sr-Latn-R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знаци</a:t>
            </a:r>
            <a:r>
              <a:rPr b="1" lang="sr-Latn-R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болести</a:t>
            </a:r>
            <a:r>
              <a:rPr b="1" lang="sr-Latn-RS" sz="28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250920" y="1844640"/>
            <a:ext cx="842472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Ако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млада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здрава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особа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спортиста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губи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снагу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брзо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замара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Ако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млада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здрава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особа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спортиста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понекад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изненадно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изгуби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свест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Ако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код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младе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здраве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особе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спортиста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ЕКГ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утврди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аритмија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755640" y="1052640"/>
            <a:ext cx="71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Када</a:t>
            </a:r>
            <a:r>
              <a:rPr b="1" lang="sr-Latn-R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се</a:t>
            </a:r>
            <a:r>
              <a:rPr b="1" lang="sr-Latn-R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сумња</a:t>
            </a:r>
            <a:r>
              <a:rPr b="1" lang="sr-Latn-R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на</a:t>
            </a:r>
            <a:r>
              <a:rPr b="1" lang="sr-Latn-R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миокардиопатију</a:t>
            </a:r>
            <a:r>
              <a:rPr b="1" lang="sr-Latn-RS" sz="2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954000" y="1557360"/>
            <a:ext cx="702144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0" y="404640"/>
            <a:ext cx="88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Спортско</a:t>
            </a:r>
            <a:r>
              <a:rPr b="1" lang="sr-Latn-R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срце</a:t>
            </a:r>
            <a:r>
              <a:rPr b="1" lang="sr-Latn-R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sr-Latn-R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хипертрофична слабост</a:t>
            </a:r>
            <a:r>
              <a:rPr b="1" lang="sr-Latn-R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ср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187280" y="1413000"/>
          <a:ext cx="6858000" cy="492264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</a:tblGrid>
              <a:tr h="1031760"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r>
                        <a:rPr b="1" lang="sr-Latn-RS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Paramet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r>
                        <a:rPr b="1" lang="sr-Latn-RS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portsko sr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r>
                        <a:rPr b="1" lang="sr-Latn-RS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Hipertrofična miokradiopatij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79400"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 </a:t>
                      </a:r>
                      <a:r>
                        <a:rPr b="1" lang="sr-Latn-RS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Debljina zida leve kom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je od 16 mm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še od 16 mm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77960"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 </a:t>
                      </a:r>
                      <a:r>
                        <a:rPr b="1" lang="sr-Latn-RS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Hipertrofija leve kom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centrič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imetrična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77960"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 </a:t>
                      </a:r>
                      <a:r>
                        <a:rPr b="1" lang="sr-Latn-RS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Veličina šupljine leve kom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lika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la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77600"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 </a:t>
                      </a:r>
                      <a:r>
                        <a:rPr b="1" lang="sr-Latn-RS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Dijastola (punjenje komor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rmalna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labljena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77960"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 </a:t>
                      </a:r>
                      <a:r>
                        <a:rPr b="1" lang="sr-Latn-RS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Veličina leve koronarne arter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rmalna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širena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611280" y="1989000"/>
            <a:ext cx="784836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c00000"/>
                </a:solidFill>
                <a:latin typeface="Calibri"/>
              </a:rPr>
              <a:t>Миокардитис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упала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срчаног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мишића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c00000"/>
                </a:solidFill>
                <a:latin typeface="Calibri"/>
              </a:rPr>
              <a:t>Перикардитис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упала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перикарда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c00000"/>
                </a:solidFill>
                <a:latin typeface="Calibri"/>
              </a:rPr>
              <a:t>Ендокардитис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упала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ендокарда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c00000"/>
                </a:solidFill>
                <a:latin typeface="Calibri"/>
              </a:rPr>
              <a:t>Панкардитис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- упала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целог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срца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Свака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ових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упала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срца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може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остави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600" spc="-1" strike="noStrike">
                <a:solidFill>
                  <a:srgbClr val="002060"/>
                </a:solidFill>
                <a:latin typeface="Calibri"/>
              </a:rPr>
              <a:t>трајну</a:t>
            </a:r>
            <a:r>
              <a:rPr b="1" lang="sr-Latn-RS" sz="2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sr-RS" sz="2600" spc="-1" strike="noStrike">
                <a:solidFill>
                  <a:srgbClr val="002060"/>
                </a:solidFill>
                <a:latin typeface="Calibri"/>
              </a:rPr>
              <a:t>последицу</a:t>
            </a:r>
            <a:r>
              <a:rPr b="1" lang="sr-Latn-RS" sz="2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sr-RS" sz="2600" spc="-1" strike="noStrike">
                <a:solidFill>
                  <a:srgbClr val="002060"/>
                </a:solidFill>
                <a:latin typeface="Calibri"/>
              </a:rPr>
              <a:t>развој</a:t>
            </a:r>
            <a:r>
              <a:rPr b="1" lang="sr-Latn-RS" sz="2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sr-RS" sz="2600" spc="-1" strike="noStrike">
                <a:solidFill>
                  <a:srgbClr val="002060"/>
                </a:solidFill>
                <a:latin typeface="Calibri"/>
              </a:rPr>
              <a:t>дилатативне</a:t>
            </a:r>
            <a:r>
              <a:rPr b="1" lang="sr-Latn-RS" sz="2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sr-RS" sz="2600" spc="-1" strike="noStrike">
                <a:solidFill>
                  <a:srgbClr val="002060"/>
                </a:solidFill>
                <a:latin typeface="Calibri"/>
              </a:rPr>
              <a:t>миокардиопатије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хроничне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срчане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слабости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која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има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лошу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прогнозу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здравље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па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живот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792000" y="692280"/>
            <a:ext cx="71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Запаљенска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стања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ср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395280" y="2060640"/>
            <a:ext cx="828036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Миокардитис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најчешће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изазивају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ff0000"/>
                </a:solidFill>
                <a:latin typeface="Calibri"/>
              </a:rPr>
              <a:t>Коксаки</a:t>
            </a:r>
            <a:r>
              <a:rPr b="1" lang="sr-Latn-R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ff0000"/>
                </a:solidFill>
                <a:latin typeface="Calibri"/>
              </a:rPr>
              <a:t>вируси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али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г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могу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изазвати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ff0000"/>
                </a:solidFill>
                <a:latin typeface="Calibri"/>
              </a:rPr>
              <a:t>многи</a:t>
            </a:r>
            <a:r>
              <a:rPr b="1" lang="sr-Latn-R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ff0000"/>
                </a:solidFill>
                <a:latin typeface="Calibri"/>
              </a:rPr>
              <a:t>други</a:t>
            </a:r>
            <a:r>
              <a:rPr b="1" lang="sr-Latn-R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ff0000"/>
                </a:solidFill>
                <a:latin typeface="Calibri"/>
              </a:rPr>
              <a:t>вируси</a:t>
            </a:r>
            <a:r>
              <a:rPr b="1" lang="sr-Latn-R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ff0000"/>
                </a:solidFill>
                <a:latin typeface="Calibri"/>
              </a:rPr>
              <a:t>и</a:t>
            </a:r>
            <a:r>
              <a:rPr b="1" lang="sr-Latn-R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ff0000"/>
                </a:solidFill>
                <a:latin typeface="Calibri"/>
              </a:rPr>
              <a:t>бактерије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најчешће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осле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лаких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инфекциј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дисајних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утев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70c0"/>
                </a:solidFill>
                <a:latin typeface="Calibri"/>
              </a:rPr>
              <a:t>Физичка</a:t>
            </a:r>
            <a:r>
              <a:rPr b="1" lang="sr-Latn-RS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70c0"/>
                </a:solidFill>
                <a:latin typeface="Calibri"/>
              </a:rPr>
              <a:t>активност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току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вирусних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инфекциј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овећав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ризик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развије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миокардитис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0000"/>
                </a:solidFill>
                <a:latin typeface="Calibri"/>
              </a:rPr>
              <a:t>Симптоми</a:t>
            </a:r>
            <a:r>
              <a:rPr b="1" lang="sr-Latn-R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ff0000"/>
                </a:solidFill>
                <a:latin typeface="Calibri"/>
              </a:rPr>
              <a:t>и</a:t>
            </a:r>
            <a:r>
              <a:rPr b="1" lang="sr-Latn-R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ff0000"/>
                </a:solidFill>
                <a:latin typeface="Calibri"/>
              </a:rPr>
              <a:t>знаци</a:t>
            </a:r>
            <a:r>
              <a:rPr b="1" lang="sr-Latn-R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ff0000"/>
                </a:solidFill>
                <a:latin typeface="Calibri"/>
              </a:rPr>
              <a:t>миокардитиса</a:t>
            </a:r>
            <a:r>
              <a:rPr b="1" lang="sr-Latn-RS" sz="2400" spc="-1" strike="noStrike">
                <a:solidFill>
                  <a:srgbClr val="ff0000"/>
                </a:solidFill>
                <a:latin typeface="Calibri"/>
              </a:rPr>
              <a:t>: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грозниц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лако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овишен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температур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малаксалост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изразити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губитак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наге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тупи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болови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ределу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рц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низак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крвни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ритисак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убрзан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улс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разне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аритмије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"/>
          <p:cNvSpPr/>
          <p:nvPr/>
        </p:nvSpPr>
        <p:spPr>
          <a:xfrm>
            <a:off x="792000" y="692280"/>
            <a:ext cx="71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Запаљенска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стања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ср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395280" y="1916280"/>
            <a:ext cx="842472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Спортисти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рекреативци треба</a:t>
            </a:r>
            <a:r>
              <a:rPr b="1" lang="vi-V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редовно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да обављају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600" spc="-1" strike="noStrike">
                <a:solidFill>
                  <a:srgbClr val="ff0000"/>
                </a:solidFill>
                <a:latin typeface="Calibri"/>
              </a:rPr>
              <a:t>лекарске</a:t>
            </a:r>
            <a:r>
              <a:rPr b="1" lang="sr-Latn-RS" sz="2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RS" sz="2600" spc="-1" strike="noStrike">
                <a:solidFill>
                  <a:srgbClr val="ff0000"/>
                </a:solidFill>
                <a:latin typeface="Calibri"/>
              </a:rPr>
              <a:t>прегледе</a:t>
            </a:r>
            <a:r>
              <a:rPr b="1" lang="vi-VN" sz="2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Преглед</a:t>
            </a:r>
            <a:r>
              <a:rPr b="1" lang="vi-V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треба</a:t>
            </a:r>
            <a:r>
              <a:rPr b="1" lang="vi-V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1" lang="vi-V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изврши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лекар</a:t>
            </a:r>
            <a:r>
              <a:rPr b="1" lang="vi-V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специјалиста</a:t>
            </a:r>
            <a:r>
              <a:rPr b="1" lang="vi-V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медицине</a:t>
            </a:r>
            <a:r>
              <a:rPr b="1" lang="vi-V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спорта</a:t>
            </a:r>
            <a:r>
              <a:rPr b="1" lang="vi-VN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сваких</a:t>
            </a:r>
            <a:r>
              <a:rPr b="1" lang="vi-VN" sz="2600" spc="-1" strike="noStrike">
                <a:solidFill>
                  <a:srgbClr val="000000"/>
                </a:solidFill>
                <a:latin typeface="Arial"/>
              </a:rPr>
              <a:t> 6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месеци</a:t>
            </a:r>
            <a:r>
              <a:rPr b="1" lang="vi-VN" sz="2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ff0000"/>
                </a:solidFill>
                <a:latin typeface="Calibri"/>
              </a:rPr>
              <a:t>По</a:t>
            </a:r>
            <a:r>
              <a:rPr b="1" lang="sr-Latn-RS" sz="2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RS" sz="2600" spc="-1" strike="noStrike">
                <a:solidFill>
                  <a:srgbClr val="ff0000"/>
                </a:solidFill>
                <a:latin typeface="Calibri"/>
              </a:rPr>
              <a:t>потреби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раде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додатни</a:t>
            </a:r>
            <a:r>
              <a:rPr b="1" lang="vi-V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прегледи</a:t>
            </a:r>
            <a:r>
              <a:rPr b="1" lang="vi-VN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ff0000"/>
                </a:solidFill>
                <a:latin typeface="Calibri"/>
              </a:rPr>
              <a:t>Сарадња</a:t>
            </a:r>
            <a:r>
              <a:rPr b="1" lang="sr-Latn-RS" sz="2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RS" sz="2600" spc="-1" strike="noStrike">
                <a:solidFill>
                  <a:srgbClr val="ff0000"/>
                </a:solidFill>
                <a:latin typeface="Calibri"/>
              </a:rPr>
              <a:t>тренера</a:t>
            </a:r>
            <a:r>
              <a:rPr b="1" lang="sr-Latn-RS" sz="2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RS" sz="2600" spc="-1" strike="noStrike">
                <a:solidFill>
                  <a:srgbClr val="ff0000"/>
                </a:solidFill>
                <a:latin typeface="Calibri"/>
              </a:rPr>
              <a:t>и</a:t>
            </a:r>
            <a:r>
              <a:rPr b="1" lang="sr-Latn-RS" sz="2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RS" sz="2600" spc="-1" strike="noStrike">
                <a:solidFill>
                  <a:srgbClr val="ff0000"/>
                </a:solidFill>
                <a:latin typeface="Calibri"/>
              </a:rPr>
              <a:t>лекара</a:t>
            </a:r>
            <a:r>
              <a:rPr b="1" lang="sr-Latn-RS" sz="2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екипи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изузетне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важности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очување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унапређење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здравља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спортиста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792000" y="692280"/>
            <a:ext cx="7183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000" spc="-1" strike="noStrike">
                <a:solidFill>
                  <a:srgbClr val="ff0000"/>
                </a:solidFill>
                <a:latin typeface="Arial"/>
              </a:rPr>
              <a:t>Превенција</a:t>
            </a:r>
            <a:r>
              <a:rPr b="1" lang="sr-Latn-CS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RS" sz="3000" spc="-1" strike="noStrike">
                <a:solidFill>
                  <a:srgbClr val="ff0000"/>
                </a:solidFill>
                <a:latin typeface="Arial"/>
              </a:rPr>
              <a:t>обољења</a:t>
            </a:r>
            <a:r>
              <a:rPr b="1" lang="sr-Latn-CS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RS" sz="3000" spc="-1" strike="noStrike">
                <a:solidFill>
                  <a:srgbClr val="ff0000"/>
                </a:solidFill>
                <a:latin typeface="Arial"/>
              </a:rPr>
              <a:t>срца</a:t>
            </a:r>
            <a:r>
              <a:rPr b="1" lang="sr-Latn-CS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RS" sz="3000" spc="-1" strike="noStrike">
                <a:solidFill>
                  <a:srgbClr val="ff0000"/>
                </a:solidFill>
                <a:latin typeface="Arial"/>
              </a:rPr>
              <a:t>код</a:t>
            </a:r>
            <a:r>
              <a:rPr b="1" lang="sr-Latn-CS" sz="3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sr-RS" sz="3000" spc="-1" strike="noStrike">
                <a:solidFill>
                  <a:srgbClr val="ff0000"/>
                </a:solidFill>
                <a:latin typeface="Arial"/>
              </a:rPr>
              <a:t>спортис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324000" y="2492280"/>
            <a:ext cx="835164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1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великом физичком напору повећава</a:t>
            </a:r>
            <a:r>
              <a:rPr b="1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1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фреквенца</a:t>
            </a:r>
            <a:r>
              <a:rPr b="1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срчаног</a:t>
            </a:r>
            <a:r>
              <a:rPr b="1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рада</a:t>
            </a:r>
            <a:r>
              <a:rPr b="1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1" lang="vi-VN" sz="2200" spc="-1" strike="noStrike">
                <a:solidFill>
                  <a:srgbClr val="000000"/>
                </a:solidFill>
                <a:latin typeface="Arial"/>
              </a:rPr>
              <a:t> 200-250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откуцаја</a:t>
            </a:r>
            <a:r>
              <a:rPr b="1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минути</a:t>
            </a:r>
            <a:r>
              <a:rPr b="1" lang="vi-VN" sz="2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Ударни волумен може достићи вредности и до </a:t>
            </a:r>
            <a:r>
              <a:rPr b="1" lang="vi-VN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0 ml, а минутни и до </a:t>
            </a:r>
            <a:r>
              <a:rPr b="1" lang="vi-VN" sz="2200" spc="-1" strike="noStrike">
                <a:solidFill>
                  <a:srgbClr val="000000"/>
                </a:solidFill>
                <a:latin typeface="Arial"/>
              </a:rPr>
              <a:t>35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литара</a:t>
            </a:r>
            <a:r>
              <a:rPr b="1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крв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Из овога се види колико је спорт напоран за срце, али и за цео организа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755640" y="1052640"/>
            <a:ext cx="71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Психофизички</a:t>
            </a: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стрес</a:t>
            </a: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у</a:t>
            </a: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спор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179280" y="1844640"/>
            <a:ext cx="921708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0070c0"/>
                </a:solidFill>
                <a:latin typeface="Calibri"/>
              </a:rPr>
              <a:t>Нажалост</a:t>
            </a:r>
            <a:r>
              <a:rPr b="1" lang="sr-Latn-RS" sz="2600" spc="-1" strike="noStrike">
                <a:solidFill>
                  <a:srgbClr val="0070c0"/>
                </a:solidFill>
                <a:latin typeface="Calibri"/>
              </a:rPr>
              <a:t>, </a:t>
            </a:r>
            <a:r>
              <a:rPr b="1" lang="sr-RS" sz="2600" spc="-1" strike="noStrike">
                <a:solidFill>
                  <a:srgbClr val="0070c0"/>
                </a:solidFill>
                <a:latin typeface="Calibri"/>
              </a:rPr>
              <a:t>у</a:t>
            </a:r>
            <a:r>
              <a:rPr b="1" lang="sr-Latn-RS" sz="2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sr-RS" sz="2600" spc="-1" strike="noStrike">
                <a:solidFill>
                  <a:srgbClr val="0070c0"/>
                </a:solidFill>
                <a:latin typeface="Calibri"/>
              </a:rPr>
              <a:t>пракси</a:t>
            </a:r>
            <a:r>
              <a:rPr b="1" lang="sr-Latn-RS" sz="2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sr-RS" sz="2600" spc="-1" strike="noStrike">
                <a:solidFill>
                  <a:srgbClr val="0070c0"/>
                </a:solidFill>
                <a:latin typeface="Calibri"/>
              </a:rPr>
              <a:t>се</a:t>
            </a:r>
            <a:r>
              <a:rPr b="1" lang="sr-Latn-RS" sz="2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sr-RS" sz="2600" spc="-1" strike="noStrike">
                <a:solidFill>
                  <a:srgbClr val="0070c0"/>
                </a:solidFill>
                <a:latin typeface="Calibri"/>
              </a:rPr>
              <a:t>често</a:t>
            </a:r>
            <a:r>
              <a:rPr b="1" lang="sr-Latn-RS" sz="2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sr-RS" sz="2600" spc="-1" strike="noStrike">
                <a:solidFill>
                  <a:srgbClr val="0070c0"/>
                </a:solidFill>
                <a:latin typeface="Calibri"/>
              </a:rPr>
              <a:t>дешавају</a:t>
            </a:r>
            <a:r>
              <a:rPr b="1" lang="sr-Latn-RS" sz="2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sr-RS" sz="2600" spc="-1" strike="noStrike">
                <a:solidFill>
                  <a:srgbClr val="0070c0"/>
                </a:solidFill>
                <a:latin typeface="Calibri"/>
              </a:rPr>
              <a:t>пропусти</a:t>
            </a:r>
            <a:r>
              <a:rPr b="1" lang="sr-Latn-RS" sz="2600" spc="-1" strike="noStrike">
                <a:solidFill>
                  <a:srgbClr val="0070c0"/>
                </a:solidFill>
                <a:latin typeface="Calibri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Спортисти се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прегледају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редовно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Прегледе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врше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лица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која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то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нису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квалификована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Прегледи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обављају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неадекватним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условима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Прегледи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испуњавају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законски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обим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односно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нису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потпун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755640" y="981000"/>
            <a:ext cx="71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Лекарски</a:t>
            </a: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прегледи</a:t>
            </a: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спортиста</a:t>
            </a: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TextBox 14" descr=""/>
          <p:cNvPicPr/>
          <p:nvPr/>
        </p:nvPicPr>
        <p:blipFill>
          <a:blip r:embed="rId1"/>
          <a:stretch/>
        </p:blipFill>
        <p:spPr>
          <a:xfrm>
            <a:off x="1719360" y="2066760"/>
            <a:ext cx="5699160" cy="2627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611280" y="1557360"/>
            <a:ext cx="777708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Изненадн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мрт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јављ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код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младих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људи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30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година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1,3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8,5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лучајева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100.000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испитаника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годишње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Чешћ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код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мушкара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ваке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године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изненад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неочекивано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умре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неколико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хиљада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Американаца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млађих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20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година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тарости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због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различитих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узрока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792000" y="692280"/>
            <a:ext cx="718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0000"/>
                </a:solidFill>
                <a:latin typeface="Arial"/>
              </a:rPr>
              <a:t>Изненадна</a:t>
            </a:r>
            <a:r>
              <a:rPr b="1" lang="sr-Latn-R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0000"/>
                </a:solidFill>
                <a:latin typeface="Arial"/>
              </a:rPr>
              <a:t>смрт спорт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250920" y="1844640"/>
            <a:ext cx="864216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0000"/>
                </a:solidFill>
                <a:latin typeface="Calibri"/>
              </a:rPr>
              <a:t>Изненадна</a:t>
            </a:r>
            <a:r>
              <a:rPr b="1" lang="sr-Latn-RS" sz="2400" spc="-1" strike="noStrike">
                <a:solidFill>
                  <a:srgbClr val="ff0000"/>
                </a:solidFill>
                <a:latin typeface="Calibri"/>
              </a:rPr>
              <a:t> (</a:t>
            </a:r>
            <a:r>
              <a:rPr b="1" lang="sr-RS" sz="2400" spc="-1" strike="noStrike">
                <a:solidFill>
                  <a:srgbClr val="ff0000"/>
                </a:solidFill>
                <a:latin typeface="Calibri"/>
              </a:rPr>
              <a:t>напрасна</a:t>
            </a:r>
            <a:r>
              <a:rPr b="1" lang="sr-Latn-RS" sz="2400" spc="-1" strike="noStrike">
                <a:solidFill>
                  <a:srgbClr val="ff0000"/>
                </a:solidFill>
                <a:latin typeface="Calibri"/>
              </a:rPr>
              <a:t>) </a:t>
            </a:r>
            <a:r>
              <a:rPr b="1" lang="sr-RS" sz="2400" spc="-1" strike="noStrike">
                <a:solidFill>
                  <a:srgbClr val="ff0000"/>
                </a:solidFill>
                <a:latin typeface="Calibri"/>
              </a:rPr>
              <a:t>смрт</a:t>
            </a:r>
            <a:r>
              <a:rPr b="1" lang="sr-Latn-R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ff0000"/>
                </a:solidFill>
                <a:latin typeface="Calibri"/>
              </a:rPr>
              <a:t>спортист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дефинише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изненадни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рестанак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рад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рц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мрт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кој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настаје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року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шест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часов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код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особ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које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баве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портом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које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ретходно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биле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доброг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здравственог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тањ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Основн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одлик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овог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феномен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јесте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типично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ff0000"/>
                </a:solidFill>
                <a:latin typeface="Calibri"/>
              </a:rPr>
              <a:t>настајање</a:t>
            </a:r>
            <a:r>
              <a:rPr b="1" lang="sr-Latn-R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ff0000"/>
                </a:solidFill>
                <a:latin typeface="Calibri"/>
              </a:rPr>
              <a:t>током</a:t>
            </a:r>
            <a:r>
              <a:rPr b="1" lang="sr-Latn-R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ff0000"/>
                </a:solidFill>
                <a:latin typeface="Calibri"/>
              </a:rPr>
              <a:t>или</a:t>
            </a:r>
            <a:r>
              <a:rPr b="1" lang="sr-Latn-R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ff0000"/>
                </a:solidFill>
                <a:latin typeface="Calibri"/>
              </a:rPr>
              <a:t>непосредно</a:t>
            </a:r>
            <a:r>
              <a:rPr b="1" lang="sr-Latn-R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ff0000"/>
                </a:solidFill>
                <a:latin typeface="Calibri"/>
              </a:rPr>
              <a:t>после</a:t>
            </a:r>
            <a:r>
              <a:rPr b="1" lang="sr-Latn-R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ff0000"/>
                </a:solidFill>
                <a:latin typeface="Calibri"/>
              </a:rPr>
              <a:t>тренинга</a:t>
            </a:r>
            <a:r>
              <a:rPr b="1" lang="sr-Latn-RS" sz="2400" spc="-1" strike="noStrike">
                <a:solidFill>
                  <a:srgbClr val="ff0000"/>
                </a:solidFill>
                <a:latin typeface="Calibri"/>
              </a:rPr>
              <a:t>, </a:t>
            </a:r>
            <a:r>
              <a:rPr b="1" lang="sr-RS" sz="2400" spc="-1" strike="noStrike">
                <a:solidFill>
                  <a:srgbClr val="ff0000"/>
                </a:solidFill>
                <a:latin typeface="Calibri"/>
              </a:rPr>
              <a:t>односно</a:t>
            </a:r>
            <a:r>
              <a:rPr b="1" lang="sr-Latn-R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ff0000"/>
                </a:solidFill>
                <a:latin typeface="Calibri"/>
              </a:rPr>
              <a:t>такмичењ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тј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осле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интензивног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физичког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напор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узрочног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фактор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Изненадн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мрт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портист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веом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актуелан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роблем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000000"/>
                </a:solidFill>
                <a:latin typeface="Calibri"/>
              </a:rPr>
              <a:t>То</a:t>
            </a:r>
            <a:r>
              <a:rPr b="1" i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RS" sz="24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1" i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RS" sz="2400" spc="-1" strike="noStrike">
                <a:solidFill>
                  <a:srgbClr val="000000"/>
                </a:solidFill>
                <a:latin typeface="Calibri"/>
              </a:rPr>
              <a:t>предмет</a:t>
            </a:r>
            <a:r>
              <a:rPr b="1" i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RS" sz="2400" spc="-1" strike="noStrike">
                <a:solidFill>
                  <a:srgbClr val="000000"/>
                </a:solidFill>
                <a:latin typeface="Calibri"/>
              </a:rPr>
              <a:t>истраживања</a:t>
            </a:r>
            <a:r>
              <a:rPr b="1" i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RS" sz="2400" spc="-1" strike="noStrike">
                <a:solidFill>
                  <a:srgbClr val="000000"/>
                </a:solidFill>
                <a:latin typeface="Calibri"/>
              </a:rPr>
              <a:t>стручњака</a:t>
            </a:r>
            <a:r>
              <a:rPr b="1" i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RS" sz="2400" spc="-1" strike="noStrike">
                <a:solidFill>
                  <a:srgbClr val="000000"/>
                </a:solidFill>
                <a:latin typeface="Calibri"/>
              </a:rPr>
              <a:t>целокупне</a:t>
            </a:r>
            <a:r>
              <a:rPr b="1" i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RS" sz="2400" spc="-1" strike="noStrike">
                <a:solidFill>
                  <a:srgbClr val="000000"/>
                </a:solidFill>
                <a:latin typeface="Calibri"/>
              </a:rPr>
              <a:t>медицине</a:t>
            </a:r>
            <a:r>
              <a:rPr b="1" i="1" lang="sr-Latn-R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i="1" lang="sr-RS" sz="2400" spc="-1" strike="noStrike">
                <a:solidFill>
                  <a:srgbClr val="000000"/>
                </a:solidFill>
                <a:latin typeface="Calibri"/>
              </a:rPr>
              <a:t>посебно</a:t>
            </a:r>
            <a:r>
              <a:rPr b="1" i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RS" sz="2400" spc="-1" strike="noStrike">
                <a:solidFill>
                  <a:srgbClr val="000000"/>
                </a:solidFill>
                <a:latin typeface="Calibri"/>
              </a:rPr>
              <a:t>медицине</a:t>
            </a:r>
            <a:r>
              <a:rPr b="1" i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RS" sz="2400" spc="-1" strike="noStrike">
                <a:solidFill>
                  <a:srgbClr val="000000"/>
                </a:solidFill>
                <a:latin typeface="Calibri"/>
              </a:rPr>
              <a:t>спорта</a:t>
            </a:r>
            <a:r>
              <a:rPr b="1" i="1" lang="sr-Latn-R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i="1" lang="sr-RS" sz="2400" spc="-1" strike="noStrike">
                <a:solidFill>
                  <a:srgbClr val="000000"/>
                </a:solidFill>
                <a:latin typeface="Calibri"/>
              </a:rPr>
              <a:t>али</a:t>
            </a:r>
            <a:r>
              <a:rPr b="1" i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R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i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RS" sz="2400" spc="-1" strike="noStrike">
                <a:solidFill>
                  <a:srgbClr val="000000"/>
                </a:solidFill>
                <a:latin typeface="Calibri"/>
              </a:rPr>
              <a:t>многих</a:t>
            </a:r>
            <a:r>
              <a:rPr b="1" i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RS" sz="2400" spc="-1" strike="noStrike">
                <a:solidFill>
                  <a:srgbClr val="000000"/>
                </a:solidFill>
                <a:latin typeface="Calibri"/>
              </a:rPr>
              <a:t>других</a:t>
            </a:r>
            <a:r>
              <a:rPr b="1" i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RS" sz="2400" spc="-1" strike="noStrike">
                <a:solidFill>
                  <a:srgbClr val="000000"/>
                </a:solidFill>
                <a:latin typeface="Calibri"/>
              </a:rPr>
              <a:t>стручњака</a:t>
            </a:r>
            <a:r>
              <a:rPr b="1" i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R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i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RS" sz="2400" spc="-1" strike="noStrike">
                <a:solidFill>
                  <a:srgbClr val="000000"/>
                </a:solidFill>
                <a:latin typeface="Calibri"/>
              </a:rPr>
              <a:t>спорту</a:t>
            </a:r>
            <a:r>
              <a:rPr b="1" i="1" lang="sr-Latn-R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792000" y="692280"/>
            <a:ext cx="718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ff0000"/>
                </a:solidFill>
                <a:latin typeface="Arial"/>
              </a:rPr>
              <a:t>Изненадна смрт спорти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324000" y="1844640"/>
            <a:ext cx="835164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0070c0"/>
                </a:solidFill>
                <a:latin typeface="Calibri"/>
              </a:rPr>
              <a:t>Неочекивана</a:t>
            </a:r>
            <a:r>
              <a:rPr b="1" lang="vi-VN" sz="26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sr-RS" sz="2600" spc="-1" strike="noStrike">
                <a:solidFill>
                  <a:srgbClr val="0070c0"/>
                </a:solidFill>
                <a:latin typeface="Calibri"/>
              </a:rPr>
              <a:t>смрт</a:t>
            </a:r>
            <a:r>
              <a:rPr b="1" lang="vi-VN" sz="26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sr-RS" sz="2600" spc="-1" strike="noStrike">
                <a:solidFill>
                  <a:srgbClr val="0070c0"/>
                </a:solidFill>
                <a:latin typeface="Calibri"/>
              </a:rPr>
              <a:t>настаје</a:t>
            </a:r>
            <a:r>
              <a:rPr b="1" lang="sr-Latn-RS" sz="2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sr-RS" sz="2600" spc="-1" strike="noStrike">
                <a:solidFill>
                  <a:srgbClr val="0070c0"/>
                </a:solidFill>
                <a:latin typeface="Calibri"/>
              </a:rPr>
              <a:t>због</a:t>
            </a:r>
            <a:r>
              <a:rPr b="1" lang="vi-V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наглог</a:t>
            </a:r>
            <a:r>
              <a:rPr b="1" lang="vi-V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престанка</a:t>
            </a:r>
            <a:r>
              <a:rPr b="1" lang="vi-V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срчане</a:t>
            </a:r>
            <a:r>
              <a:rPr b="1" lang="vi-V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функције</a:t>
            </a:r>
            <a:r>
              <a:rPr b="1" lang="vi-VN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често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без</a:t>
            </a:r>
            <a:r>
              <a:rPr b="1" lang="vi-V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претходних</a:t>
            </a:r>
            <a:r>
              <a:rPr b="1" lang="vi-V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симптома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vi-V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код</a:t>
            </a:r>
            <a:r>
              <a:rPr b="1" lang="vi-V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особа које</a:t>
            </a:r>
            <a:r>
              <a:rPr b="1" lang="vi-V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могу</a:t>
            </a:r>
            <a:r>
              <a:rPr b="1" lang="vi-V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али</a:t>
            </a:r>
            <a:r>
              <a:rPr b="1" lang="vi-V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1" lang="vi-V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морају</a:t>
            </a:r>
            <a:r>
              <a:rPr b="1" lang="vi-V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бити</a:t>
            </a:r>
            <a:r>
              <a:rPr b="1" lang="vi-V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срчани</a:t>
            </a:r>
            <a:r>
              <a:rPr b="1" lang="vi-V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болесници</a:t>
            </a:r>
            <a:r>
              <a:rPr b="1" lang="vi-VN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1" lang="vi-V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најчешће</a:t>
            </a:r>
            <a:r>
              <a:rPr b="1" lang="vi-V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1" lang="vi-V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млађег</a:t>
            </a:r>
            <a:r>
              <a:rPr b="1" lang="vi-V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узраста</a:t>
            </a:r>
            <a:r>
              <a:rPr b="1" lang="vi-VN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000000"/>
                </a:solidFill>
                <a:latin typeface="Arial"/>
              </a:rPr>
              <a:t>Настаје</a:t>
            </a:r>
            <a:r>
              <a:rPr b="1" lang="sr-Latn-R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Arial"/>
              </a:rPr>
              <a:t>одједном</a:t>
            </a:r>
            <a:r>
              <a:rPr b="1" lang="sr-Latn-R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sr-Latn-R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Arial"/>
              </a:rPr>
              <a:t>без</a:t>
            </a:r>
            <a:r>
              <a:rPr b="1" lang="sr-Latn-R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Arial"/>
              </a:rPr>
              <a:t>икакве</a:t>
            </a:r>
            <a:r>
              <a:rPr b="1" lang="sr-Latn-R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Arial"/>
              </a:rPr>
              <a:t>опомене</a:t>
            </a:r>
            <a:r>
              <a:rPr b="1" lang="sr-Latn-R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Најчешће</a:t>
            </a:r>
            <a:r>
              <a:rPr b="1" lang="vi-V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1" lang="vi-V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доводи</a:t>
            </a:r>
            <a:r>
              <a:rPr b="1" lang="vi-V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vi-V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везу</a:t>
            </a:r>
            <a:r>
              <a:rPr b="1" lang="vi-V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1" lang="vi-V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600" spc="-1" strike="noStrike">
                <a:solidFill>
                  <a:srgbClr val="0070c0"/>
                </a:solidFill>
                <a:latin typeface="Arial"/>
              </a:rPr>
              <a:t>срчаном</a:t>
            </a:r>
            <a:r>
              <a:rPr b="1" lang="sr-Latn-RS" sz="26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sr-RS" sz="2600" spc="-1" strike="noStrike">
                <a:solidFill>
                  <a:srgbClr val="0070c0"/>
                </a:solidFill>
                <a:latin typeface="Calibri"/>
              </a:rPr>
              <a:t>аритмијом</a:t>
            </a:r>
            <a:r>
              <a:rPr b="1" lang="vi-VN" sz="2600" spc="-1" strike="noStrike">
                <a:solidFill>
                  <a:srgbClr val="0070c0"/>
                </a:solidFill>
                <a:latin typeface="Arial"/>
              </a:rPr>
              <a:t>,</a:t>
            </a:r>
            <a:r>
              <a:rPr b="1" lang="vi-V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1" lang="vi-V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1" lang="vi-V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првих</a:t>
            </a:r>
            <a:r>
              <a:rPr b="1" lang="vi-V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симптома</a:t>
            </a:r>
            <a:r>
              <a:rPr b="1" lang="vi-V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1" lang="vi-V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смрти</a:t>
            </a:r>
            <a:r>
              <a:rPr b="1" lang="vi-V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често</a:t>
            </a:r>
            <a:r>
              <a:rPr b="1" lang="vi-V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прође</a:t>
            </a:r>
            <a:r>
              <a:rPr b="1" lang="vi-V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само</a:t>
            </a:r>
            <a:r>
              <a:rPr b="1" lang="vi-V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један</a:t>
            </a:r>
            <a:r>
              <a:rPr b="1" lang="vi-V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сат</a:t>
            </a:r>
            <a:r>
              <a:rPr b="1" lang="vi-VN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792000" y="692280"/>
            <a:ext cx="718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0000"/>
                </a:solidFill>
                <a:latin typeface="Arial"/>
              </a:rPr>
              <a:t>Изненадна</a:t>
            </a:r>
            <a:r>
              <a:rPr b="1" lang="sr-Latn-R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0000"/>
                </a:solidFill>
                <a:latin typeface="Arial"/>
              </a:rPr>
              <a:t>смрт спорт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395280" y="1773360"/>
            <a:ext cx="828036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рви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лучај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изненадне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рчане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мрти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због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физичког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напор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Грк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Филипидес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Он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490.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год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трчао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Маратонског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ољ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Атине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(42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км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би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што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ре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аопштио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вест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обеди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Атињан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над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ерсијанцим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Након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аопштавањ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вести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он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умро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Изненадн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мрт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портист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ве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чешћа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ојава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портским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теренима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фудбал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кошарку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атлетику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бициклизам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др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литератури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остоје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одаци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21-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ом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веку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јави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ff0000"/>
                </a:solidFill>
                <a:latin typeface="Calibri"/>
              </a:rPr>
              <a:t>по</a:t>
            </a:r>
            <a:r>
              <a:rPr b="1" lang="vi-VN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ff0000"/>
                </a:solidFill>
                <a:latin typeface="Calibri"/>
              </a:rPr>
              <a:t>једна</a:t>
            </a:r>
            <a:r>
              <a:rPr b="1" lang="vi-VN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ff0000"/>
                </a:solidFill>
                <a:latin typeface="Calibri"/>
              </a:rPr>
              <a:t>изненадна</a:t>
            </a:r>
            <a:r>
              <a:rPr b="1" lang="vi-VN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ff0000"/>
                </a:solidFill>
                <a:latin typeface="Calibri"/>
              </a:rPr>
              <a:t>срчана</a:t>
            </a:r>
            <a:r>
              <a:rPr b="1" lang="vi-VN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ff0000"/>
                </a:solidFill>
                <a:latin typeface="Calibri"/>
              </a:rPr>
              <a:t>смрт</a:t>
            </a:r>
            <a:r>
              <a:rPr b="1" lang="vi-VN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ff0000"/>
                </a:solidFill>
                <a:latin typeface="Calibri"/>
              </a:rPr>
              <a:t>на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ваких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396.000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часова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џогинга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, 13.000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26.000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часова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кијањ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5.000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часова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играња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рагбиј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792000" y="692280"/>
            <a:ext cx="718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ff0000"/>
                </a:solidFill>
                <a:latin typeface="Arial"/>
              </a:rPr>
              <a:t>Изненадна смрт спорти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395280" y="1844640"/>
            <a:ext cx="835344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мушком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фудбалу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ризик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изненадн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мрт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1" lang="sr-Latn-R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случај</a:t>
            </a:r>
            <a:r>
              <a:rPr b="1" lang="sr-Latn-R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1" lang="sr-Latn-R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23.689</a:t>
            </a:r>
            <a:r>
              <a:rPr b="1" lang="sr-Latn-R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играча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кошарци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знатно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већи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– 1</a:t>
            </a:r>
            <a:r>
              <a:rPr b="1" lang="sr-Latn-R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8.978</a:t>
            </a:r>
            <a:r>
              <a:rPr b="1" lang="sr-Latn-R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играча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b050"/>
                </a:solidFill>
                <a:latin typeface="Calibri"/>
              </a:rPr>
              <a:t>О</a:t>
            </a:r>
            <a:r>
              <a:rPr b="1" lang="sr-RS" sz="2400" spc="-1" strike="noStrike">
                <a:solidFill>
                  <a:srgbClr val="00b050"/>
                </a:solidFill>
                <a:latin typeface="Arial"/>
              </a:rPr>
              <a:t>бјашњење</a:t>
            </a:r>
            <a:r>
              <a:rPr b="1" lang="sr-Latn-RS" sz="2400" spc="-1" strike="noStrike">
                <a:solidFill>
                  <a:srgbClr val="00b050"/>
                </a:solidFill>
                <a:latin typeface="Arial"/>
              </a:rPr>
              <a:t>:</a:t>
            </a:r>
            <a:r>
              <a:rPr b="1" lang="sr-Latn-R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кошарка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1" lang="sr-Latn-R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напорнији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експлозивниј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порт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фазама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изненадног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високоинтензивног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принта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уно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кокова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држање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руку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високо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изнад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главе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што</a:t>
            </a:r>
            <a:r>
              <a:rPr b="1" lang="sr-Latn-R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1" lang="sr-Latn-R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додатни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напор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ошаркаши</a:t>
            </a:r>
            <a:r>
              <a:rPr b="1" lang="sr-Latn-R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1" lang="sr-Latn-R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равилу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висо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ки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изнад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росека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па</a:t>
            </a:r>
            <a:r>
              <a:rPr b="1" lang="sr-Latn-R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због</a:t>
            </a:r>
            <a:r>
              <a:rPr b="1" lang="sr-Latn-R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га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неки</a:t>
            </a:r>
            <a:r>
              <a:rPr b="1" lang="sr-Latn-R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њих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има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ју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тзв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sr-RS" sz="2400" spc="-1" strike="noStrike">
                <a:solidFill>
                  <a:srgbClr val="215968"/>
                </a:solidFill>
                <a:latin typeface="Calibri"/>
              </a:rPr>
              <a:t>Марфанов</a:t>
            </a:r>
            <a:r>
              <a:rPr b="1" lang="vi-VN" sz="2400" spc="-1" strike="noStrike">
                <a:solidFill>
                  <a:srgbClr val="215968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215968"/>
                </a:solidFill>
                <a:latin typeface="Calibri"/>
              </a:rPr>
              <a:t>синдром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R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слабост</a:t>
            </a:r>
            <a:r>
              <a:rPr b="1" lang="sr-Latn-R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зидова</a:t>
            </a:r>
            <a:r>
              <a:rPr b="1" lang="sr-Latn-R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великих</a:t>
            </a:r>
            <a:r>
              <a:rPr b="1" lang="sr-Latn-R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крвних</a:t>
            </a:r>
            <a:r>
              <a:rPr b="1" lang="sr-Latn-R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судова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а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међу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њима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овећана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учесталост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уптуре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зида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аорте</a:t>
            </a:r>
            <a:r>
              <a:rPr b="1" lang="sr-Latn-R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дисекација</a:t>
            </a:r>
            <a:r>
              <a:rPr b="1" lang="sr-Latn-R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анеуризме</a:t>
            </a:r>
            <a:r>
              <a:rPr b="1" lang="sr-Latn-R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аорте</a:t>
            </a:r>
            <a:r>
              <a:rPr b="1" lang="sr-Latn-R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792000" y="692280"/>
            <a:ext cx="718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ff0000"/>
                </a:solidFill>
                <a:latin typeface="Arial"/>
              </a:rPr>
              <a:t>Изненадна смрт спорти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468360" y="1844640"/>
            <a:ext cx="750708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0070c0"/>
                </a:solidFill>
                <a:latin typeface="Arial"/>
              </a:rPr>
              <a:t>"</a:t>
            </a:r>
            <a:r>
              <a:rPr b="1" lang="sr-RS" sz="2400" spc="-1" strike="noStrike">
                <a:solidFill>
                  <a:srgbClr val="0070c0"/>
                </a:solidFill>
                <a:latin typeface="Calibri"/>
              </a:rPr>
              <a:t>Утакмица</a:t>
            </a:r>
            <a:r>
              <a:rPr b="1" lang="vi-VN" sz="24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70c0"/>
                </a:solidFill>
                <a:latin typeface="Calibri"/>
              </a:rPr>
              <a:t>за</a:t>
            </a:r>
            <a:r>
              <a:rPr b="1" lang="vi-VN" sz="24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70c0"/>
                </a:solidFill>
                <a:latin typeface="Calibri"/>
              </a:rPr>
              <a:t>инфаркт</a:t>
            </a:r>
            <a:r>
              <a:rPr b="1" lang="vi-VN" sz="2400" spc="-1" strike="noStrike">
                <a:solidFill>
                  <a:srgbClr val="0070c0"/>
                </a:solidFill>
                <a:latin typeface="Arial"/>
              </a:rPr>
              <a:t>"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честа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фраза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портистих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коментатора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али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онекад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урово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истинита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То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отврђује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лучај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недавно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реминулог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фудбалера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евиље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Антони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ј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уерте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утакмици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ао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sr-Latn-R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изгубио</a:t>
            </a:r>
            <a:r>
              <a:rPr b="1" lang="sr-Latn-R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свест</a:t>
            </a:r>
            <a:r>
              <a:rPr b="1" lang="sr-Latn-RS" sz="2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Брзом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реакцијом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нашег</a:t>
            </a:r>
            <a:r>
              <a:rPr b="1" lang="sr-Latn-R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фудбалера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Ивице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Драгутиновића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медицинског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особља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уерта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устао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изашао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тадиона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Међутим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уту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болнице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уследила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ерија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нових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рчаних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удара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он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умро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792000" y="692280"/>
            <a:ext cx="718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ff0000"/>
                </a:solidFill>
                <a:latin typeface="Arial"/>
              </a:rPr>
              <a:t>Изненадна смрт спорти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VIDEO: Spanje huilt om Puerta | Het Nieuwsblad Mobile"/>
          <p:cNvPicPr/>
          <p:nvPr/>
        </p:nvPicPr>
        <p:blipFill>
          <a:blip r:embed="rId1"/>
          <a:stretch/>
        </p:blipFill>
        <p:spPr>
          <a:xfrm>
            <a:off x="1428840" y="914400"/>
            <a:ext cx="5943600" cy="5281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954000" y="1557360"/>
            <a:ext cx="702144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792000" y="692280"/>
            <a:ext cx="7183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000" spc="-1" strike="noStrike">
                <a:solidFill>
                  <a:srgbClr val="000000"/>
                </a:solidFill>
                <a:latin typeface="Arial"/>
              </a:rPr>
              <a:t>Мајкл</a:t>
            </a:r>
            <a:r>
              <a:rPr b="1" lang="sr-Latn-R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3000" spc="-1" strike="noStrike">
                <a:solidFill>
                  <a:srgbClr val="000000"/>
                </a:solidFill>
                <a:latin typeface="Arial"/>
              </a:rPr>
              <a:t>Оџо</a:t>
            </a:r>
            <a:r>
              <a:rPr b="1" lang="sr-Latn-RS" sz="3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sr-RS" sz="3000" spc="-1" strike="noStrike">
                <a:solidFill>
                  <a:srgbClr val="000000"/>
                </a:solidFill>
                <a:latin typeface="Arial"/>
              </a:rPr>
              <a:t>Шта</a:t>
            </a:r>
            <a:r>
              <a:rPr b="1" lang="sr-Latn-R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3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1" lang="sr-Latn-R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3000" spc="-1" strike="noStrike">
                <a:solidFill>
                  <a:srgbClr val="000000"/>
                </a:solidFill>
                <a:latin typeface="Arial"/>
              </a:rPr>
              <a:t>срушило</a:t>
            </a:r>
            <a:r>
              <a:rPr b="1" lang="sr-Latn-R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3000" spc="-1" strike="noStrike">
                <a:solidFill>
                  <a:srgbClr val="000000"/>
                </a:solidFill>
                <a:latin typeface="Arial"/>
              </a:rPr>
              <a:t>Звездиног</a:t>
            </a:r>
            <a:r>
              <a:rPr b="1" lang="sr-Latn-R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3000" spc="-1" strike="noStrike">
                <a:solidFill>
                  <a:srgbClr val="000000"/>
                </a:solidFill>
                <a:latin typeface="Arial"/>
              </a:rPr>
              <a:t>дива</a:t>
            </a:r>
            <a:r>
              <a:rPr b="1" lang="sr-Latn-RS" sz="3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1403280" y="2276640"/>
            <a:ext cx="6145200" cy="4033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324000" y="1844640"/>
            <a:ext cx="856908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истолни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крвни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ритисак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ТА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овећава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и до 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250 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mmH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нагомилавањем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млечне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киселине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лактати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ојачава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метаболизам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Због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хипоксије у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ткивима и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хипогликемије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метаболизам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Кребсов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циклус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релази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анаеробну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гликолизу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још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већом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интезом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лактата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токсични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миокард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крвне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удове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лактатна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ацидоза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ве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ове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ромене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могу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доведу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изненадне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мрти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портисте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оготово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код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особ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које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имају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неку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урођених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мана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рц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крвних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удова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оштећења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миокар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792000" y="692280"/>
            <a:ext cx="71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Психофизички</a:t>
            </a: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стрес</a:t>
            </a: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у</a:t>
            </a: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спор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954000" y="1557360"/>
            <a:ext cx="702144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324000" y="9810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Смрт</a:t>
            </a:r>
            <a:r>
              <a:rPr b="1" lang="sr-Latn-R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Давида</a:t>
            </a:r>
            <a:r>
              <a:rPr b="1" lang="sr-Latn-R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Асторије</a:t>
            </a:r>
            <a:r>
              <a:rPr b="1" lang="sr-Latn-RS" sz="2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капитена</a:t>
            </a:r>
            <a:r>
              <a:rPr b="1" lang="sr-Latn-R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Фиоренти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1908000" y="2060640"/>
            <a:ext cx="5234040" cy="4432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324000" y="1844640"/>
            <a:ext cx="88200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0000"/>
                </a:solidFill>
                <a:latin typeface="Calibri"/>
              </a:rPr>
              <a:t>Коронарна</a:t>
            </a:r>
            <a:r>
              <a:rPr b="1" lang="sr-Latn-R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ff0000"/>
                </a:solidFill>
                <a:latin typeface="Calibri"/>
              </a:rPr>
              <a:t>болест</a:t>
            </a:r>
            <a:r>
              <a:rPr b="1" lang="sr-Latn-R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ff0000"/>
                </a:solidFill>
                <a:latin typeface="Calibri"/>
              </a:rPr>
              <a:t>срца</a:t>
            </a:r>
            <a:r>
              <a:rPr b="1" lang="sr-Latn-RS" sz="2400" spc="-1" strike="noStrike">
                <a:solidFill>
                  <a:srgbClr val="ff0000"/>
                </a:solidFill>
                <a:latin typeface="Calibri"/>
              </a:rPr>
              <a:t>: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чест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узрок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(80%)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лучајев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напрасне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рчане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мрти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Код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25%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напрасн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мрт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рв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манифестациј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0000"/>
                </a:solidFill>
                <a:latin typeface="Calibri"/>
              </a:rPr>
              <a:t>Хипертрофична</a:t>
            </a:r>
            <a:r>
              <a:rPr b="1" lang="sr-Latn-R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ff0000"/>
                </a:solidFill>
                <a:latin typeface="Calibri"/>
              </a:rPr>
              <a:t>и</a:t>
            </a:r>
            <a:r>
              <a:rPr b="1" lang="sr-Latn-R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ff0000"/>
                </a:solidFill>
                <a:latin typeface="Calibri"/>
              </a:rPr>
              <a:t>дилатативна</a:t>
            </a:r>
            <a:r>
              <a:rPr b="1" lang="sr-Latn-R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ff0000"/>
                </a:solidFill>
                <a:latin typeface="Calibri"/>
              </a:rPr>
              <a:t>кардиомиопатија</a:t>
            </a:r>
            <a:r>
              <a:rPr b="1" lang="sr-Latn-RS" sz="2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0000"/>
                </a:solidFill>
                <a:latin typeface="Calibri"/>
              </a:rPr>
              <a:t>Миокардитис</a:t>
            </a:r>
            <a:r>
              <a:rPr b="1" lang="sr-Latn-RS" sz="2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0000"/>
                </a:solidFill>
                <a:latin typeface="Calibri"/>
              </a:rPr>
              <a:t>Срчане</a:t>
            </a:r>
            <a:r>
              <a:rPr b="1" lang="sr-Latn-R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ff0000"/>
                </a:solidFill>
                <a:latin typeface="Calibri"/>
              </a:rPr>
              <a:t>мане</a:t>
            </a:r>
            <a:r>
              <a:rPr b="1" lang="sr-Latn-RS" sz="2400" spc="-1" strike="noStrike">
                <a:solidFill>
                  <a:srgbClr val="ff0000"/>
                </a:solidFill>
                <a:latin typeface="Calibri"/>
              </a:rPr>
              <a:t>: </a:t>
            </a:r>
            <a:r>
              <a:rPr b="1" lang="sr-RS" sz="2400" spc="-1" strike="noStrike">
                <a:solidFill>
                  <a:srgbClr val="ff0000"/>
                </a:solidFill>
                <a:latin typeface="Calibri"/>
              </a:rPr>
              <a:t>пролапс</a:t>
            </a:r>
            <a:r>
              <a:rPr b="1" lang="sr-Latn-R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ff0000"/>
                </a:solidFill>
                <a:latin typeface="Calibri"/>
              </a:rPr>
              <a:t>митралне</a:t>
            </a:r>
            <a:r>
              <a:rPr b="1" lang="sr-Latn-R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ff0000"/>
                </a:solidFill>
                <a:latin typeface="Calibri"/>
              </a:rPr>
              <a:t>валвуле</a:t>
            </a:r>
            <a:r>
              <a:rPr b="1" lang="sr-Latn-R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ff0000"/>
                </a:solidFill>
                <a:latin typeface="Calibri"/>
              </a:rPr>
              <a:t>и</a:t>
            </a:r>
            <a:r>
              <a:rPr b="1" lang="sr-Latn-R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ff0000"/>
                </a:solidFill>
                <a:latin typeface="Calibri"/>
              </a:rPr>
              <a:t>аортна</a:t>
            </a:r>
            <a:r>
              <a:rPr b="1" lang="sr-Latn-R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ff0000"/>
                </a:solidFill>
                <a:latin typeface="Calibri"/>
              </a:rPr>
              <a:t>стеноза</a:t>
            </a:r>
            <a:r>
              <a:rPr b="1" lang="sr-Latn-RS" sz="2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0000"/>
                </a:solidFill>
                <a:latin typeface="Calibri"/>
              </a:rPr>
              <a:t>Срчане</a:t>
            </a:r>
            <a:r>
              <a:rPr b="1" lang="sr-Latn-R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ff0000"/>
                </a:solidFill>
                <a:latin typeface="Calibri"/>
              </a:rPr>
              <a:t>аритмије</a:t>
            </a:r>
            <a:r>
              <a:rPr b="1" lang="sr-Latn-RS" sz="2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0000"/>
                </a:solidFill>
                <a:latin typeface="Calibri"/>
              </a:rPr>
              <a:t>Руптура</a:t>
            </a:r>
            <a:r>
              <a:rPr b="1" lang="sr-Latn-R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ff0000"/>
                </a:solidFill>
                <a:latin typeface="Calibri"/>
              </a:rPr>
              <a:t>анеуризме</a:t>
            </a:r>
            <a:r>
              <a:rPr b="1" lang="sr-Latn-R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ff0000"/>
                </a:solidFill>
                <a:latin typeface="Calibri"/>
              </a:rPr>
              <a:t>артерија</a:t>
            </a:r>
            <a:r>
              <a:rPr b="1" lang="sr-Latn-R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ff0000"/>
                </a:solidFill>
                <a:latin typeface="Calibri"/>
              </a:rPr>
              <a:t>у</a:t>
            </a:r>
            <a:r>
              <a:rPr b="1" lang="sr-Latn-R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ff0000"/>
                </a:solidFill>
                <a:latin typeface="Calibri"/>
              </a:rPr>
              <a:t>срцу</a:t>
            </a:r>
            <a:r>
              <a:rPr b="1" lang="sr-Latn-R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ff0000"/>
                </a:solidFill>
                <a:latin typeface="Calibri"/>
              </a:rPr>
              <a:t>или</a:t>
            </a:r>
            <a:r>
              <a:rPr b="1" lang="sr-Latn-R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ff0000"/>
                </a:solidFill>
                <a:latin typeface="Calibri"/>
              </a:rPr>
              <a:t>мозгу</a:t>
            </a:r>
            <a:r>
              <a:rPr b="1" lang="sr-Latn-RS" sz="2400" spc="-1" strike="noStrike">
                <a:solidFill>
                  <a:srgbClr val="ff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0000"/>
                </a:solidFill>
                <a:latin typeface="Calibri"/>
              </a:rPr>
              <a:t>Ударац</a:t>
            </a:r>
            <a:r>
              <a:rPr b="1" lang="sr-Latn-R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ff0000"/>
                </a:solidFill>
                <a:latin typeface="Calibri"/>
              </a:rPr>
              <a:t>у</a:t>
            </a:r>
            <a:r>
              <a:rPr b="1" lang="sr-Latn-R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ff0000"/>
                </a:solidFill>
                <a:latin typeface="Calibri"/>
              </a:rPr>
              <a:t>грудни</a:t>
            </a:r>
            <a:r>
              <a:rPr b="1" lang="sr-Latn-R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ff0000"/>
                </a:solidFill>
                <a:latin typeface="Calibri"/>
              </a:rPr>
              <a:t>кош</a:t>
            </a:r>
            <a:r>
              <a:rPr b="1" lang="sr-Latn-RS" sz="2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0000"/>
                </a:solidFill>
                <a:latin typeface="Calibri"/>
              </a:rPr>
              <a:t>Употреба</a:t>
            </a:r>
            <a:r>
              <a:rPr b="1" lang="sr-Latn-R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ff0000"/>
                </a:solidFill>
                <a:latin typeface="Calibri"/>
              </a:rPr>
              <a:t>дрога</a:t>
            </a:r>
            <a:r>
              <a:rPr b="1" lang="sr-Latn-RS" sz="2400" spc="-1" strike="noStrike">
                <a:solidFill>
                  <a:srgbClr val="ff0000"/>
                </a:solidFill>
                <a:latin typeface="Calibri"/>
              </a:rPr>
              <a:t> (</a:t>
            </a:r>
            <a:r>
              <a:rPr b="1" lang="sr-RS" sz="2400" spc="-1" strike="noStrike">
                <a:solidFill>
                  <a:srgbClr val="ff0000"/>
                </a:solidFill>
                <a:latin typeface="Calibri"/>
              </a:rPr>
              <a:t>кокаин</a:t>
            </a:r>
            <a:r>
              <a:rPr b="1" lang="sr-Latn-RS" sz="2400" spc="-1" strike="noStrike">
                <a:solidFill>
                  <a:srgbClr val="ff0000"/>
                </a:solidFill>
                <a:latin typeface="Calibri"/>
              </a:rPr>
              <a:t>, </a:t>
            </a:r>
            <a:r>
              <a:rPr b="1" lang="sr-RS" sz="2400" spc="-1" strike="noStrike">
                <a:solidFill>
                  <a:srgbClr val="ff0000"/>
                </a:solidFill>
                <a:latin typeface="Calibri"/>
              </a:rPr>
              <a:t>хероин</a:t>
            </a:r>
            <a:r>
              <a:rPr b="1" lang="sr-Latn-R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ff0000"/>
                </a:solidFill>
                <a:latin typeface="Calibri"/>
              </a:rPr>
              <a:t>и</a:t>
            </a:r>
            <a:r>
              <a:rPr b="1" lang="sr-Latn-R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ff0000"/>
                </a:solidFill>
                <a:latin typeface="Calibri"/>
              </a:rPr>
              <a:t>сличне</a:t>
            </a:r>
            <a:r>
              <a:rPr b="1" lang="sr-Latn-RS" sz="2400" spc="-1" strike="noStrike">
                <a:solidFill>
                  <a:srgbClr val="ff00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0000"/>
                </a:solidFill>
                <a:latin typeface="Calibri"/>
              </a:rPr>
              <a:t>Злоупотреба</a:t>
            </a:r>
            <a:r>
              <a:rPr b="1" lang="sr-Latn-RS" sz="2400" spc="-1" strike="noStrike">
                <a:solidFill>
                  <a:srgbClr val="c00000"/>
                </a:solidFill>
                <a:latin typeface="Calibri"/>
              </a:rPr>
              <a:t>: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алкохол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никотин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допинг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анаболик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тероид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ротеин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неких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тимулативних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редстав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468360" y="69228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0000"/>
                </a:solidFill>
                <a:latin typeface="Arial"/>
              </a:rPr>
              <a:t>Узроци</a:t>
            </a:r>
            <a:r>
              <a:rPr b="1" lang="sr-Latn-R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0000"/>
                </a:solidFill>
                <a:latin typeface="Arial"/>
              </a:rPr>
              <a:t>изненадне</a:t>
            </a:r>
            <a:r>
              <a:rPr b="1" lang="sr-Latn-R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0000"/>
                </a:solidFill>
                <a:latin typeface="Arial"/>
              </a:rPr>
              <a:t>смрти</a:t>
            </a:r>
            <a:r>
              <a:rPr b="1" lang="sr-Latn-R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0000"/>
                </a:solidFill>
                <a:latin typeface="Arial"/>
              </a:rPr>
              <a:t>спортиста</a:t>
            </a:r>
            <a:r>
              <a:rPr b="1" lang="sr-Latn-RS" sz="32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468360" y="1844640"/>
            <a:ext cx="81360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ада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утврђено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више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vi-VN" sz="2400" spc="-1" strike="noStrike">
                <a:solidFill>
                  <a:srgbClr val="ff0000"/>
                </a:solidFill>
                <a:latin typeface="Arial"/>
              </a:rPr>
              <a:t>20 </a:t>
            </a:r>
            <a:r>
              <a:rPr b="1" lang="sr-RS" sz="2400" spc="-1" strike="noStrike">
                <a:solidFill>
                  <a:srgbClr val="ff0000"/>
                </a:solidFill>
                <a:latin typeface="Calibri"/>
              </a:rPr>
              <a:t>различитих</a:t>
            </a:r>
            <a:r>
              <a:rPr b="1" lang="vi-VN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ff0000"/>
                </a:solidFill>
                <a:latin typeface="Calibri"/>
              </a:rPr>
              <a:t>патолошких</a:t>
            </a:r>
            <a:r>
              <a:rPr b="1" lang="vi-VN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ff0000"/>
                </a:solidFill>
                <a:latin typeface="Calibri"/>
              </a:rPr>
              <a:t>стањ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која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могу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бити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узрок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изненадне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рчане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мрти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код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портиста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Међутим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има</a:t>
            </a:r>
            <a:r>
              <a:rPr b="1" lang="sr-Latn-R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неколико</a:t>
            </a:r>
            <a:r>
              <a:rPr b="1" lang="sr-Latn-R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најчешћих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70c0"/>
                </a:solidFill>
                <a:latin typeface="Arial"/>
                <a:ea typeface="Arial"/>
              </a:rPr>
              <a:t>Х</a:t>
            </a:r>
            <a:r>
              <a:rPr b="1" lang="sr-RS" sz="2400" spc="-1" strike="noStrike">
                <a:solidFill>
                  <a:srgbClr val="0070c0"/>
                </a:solidFill>
                <a:latin typeface="Calibri"/>
                <a:ea typeface="Arial"/>
              </a:rPr>
              <a:t>ипертрофична</a:t>
            </a:r>
            <a:r>
              <a:rPr b="1" lang="vi-VN" sz="2400" spc="-1" strike="noStrike">
                <a:solidFill>
                  <a:srgbClr val="0070c0"/>
                </a:solidFill>
                <a:latin typeface="Arial"/>
                <a:ea typeface="Arial"/>
              </a:rPr>
              <a:t> </a:t>
            </a:r>
            <a:r>
              <a:rPr b="1" lang="sr-RS" sz="2400" spc="-1" strike="noStrike">
                <a:solidFill>
                  <a:srgbClr val="0070c0"/>
                </a:solidFill>
                <a:latin typeface="Arial"/>
                <a:ea typeface="Arial"/>
              </a:rPr>
              <a:t>миока</a:t>
            </a:r>
            <a:r>
              <a:rPr b="1" lang="sr-RS" sz="2400" spc="-1" strike="noStrike">
                <a:solidFill>
                  <a:srgbClr val="0070c0"/>
                </a:solidFill>
                <a:latin typeface="Calibri"/>
                <a:ea typeface="Arial"/>
              </a:rPr>
              <a:t>рдиопатија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– око 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5-45 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  <a:ea typeface="Arial"/>
              </a:rPr>
              <a:t>%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  <a:ea typeface="Arial"/>
              </a:rPr>
              <a:t>случајева</a:t>
            </a:r>
            <a:r>
              <a:rPr b="1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70c0"/>
                </a:solidFill>
                <a:latin typeface="Arial"/>
                <a:ea typeface="Arial"/>
              </a:rPr>
              <a:t>А</a:t>
            </a:r>
            <a:r>
              <a:rPr b="1" lang="sr-RS" sz="2400" spc="-1" strike="noStrike">
                <a:solidFill>
                  <a:srgbClr val="0070c0"/>
                </a:solidFill>
                <a:latin typeface="Calibri"/>
                <a:ea typeface="Arial"/>
              </a:rPr>
              <a:t>номалије</a:t>
            </a:r>
            <a:r>
              <a:rPr b="1" lang="vi-VN" sz="2400" spc="-1" strike="noStrike">
                <a:solidFill>
                  <a:srgbClr val="0070c0"/>
                </a:solidFill>
                <a:latin typeface="Arial"/>
                <a:ea typeface="Arial"/>
              </a:rPr>
              <a:t> </a:t>
            </a:r>
            <a:r>
              <a:rPr b="1" lang="sr-RS" sz="2400" spc="-1" strike="noStrike">
                <a:solidFill>
                  <a:srgbClr val="0070c0"/>
                </a:solidFill>
                <a:latin typeface="Calibri"/>
                <a:ea typeface="Arial"/>
              </a:rPr>
              <a:t>срчаних</a:t>
            </a:r>
            <a:r>
              <a:rPr b="1" lang="vi-VN" sz="2400" spc="-1" strike="noStrike">
                <a:solidFill>
                  <a:srgbClr val="0070c0"/>
                </a:solidFill>
                <a:latin typeface="Arial"/>
                <a:ea typeface="Arial"/>
              </a:rPr>
              <a:t> </a:t>
            </a:r>
            <a:r>
              <a:rPr b="1" lang="sr-RS" sz="2400" spc="-1" strike="noStrike">
                <a:solidFill>
                  <a:srgbClr val="0070c0"/>
                </a:solidFill>
                <a:latin typeface="Calibri"/>
                <a:ea typeface="Arial"/>
              </a:rPr>
              <a:t>артерија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  <a:ea typeface="Arial"/>
              </a:rPr>
              <a:t>- 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око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  <a:ea typeface="Arial"/>
              </a:rPr>
              <a:t> 18%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  <a:ea typeface="Arial"/>
              </a:rPr>
              <a:t>случајева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70c0"/>
                </a:solidFill>
                <a:latin typeface="Calibri"/>
                <a:ea typeface="Arial"/>
              </a:rPr>
              <a:t>Болест</a:t>
            </a:r>
            <a:r>
              <a:rPr b="1" lang="vi-VN" sz="2400" spc="-1" strike="noStrike">
                <a:solidFill>
                  <a:srgbClr val="0070c0"/>
                </a:solidFill>
                <a:latin typeface="Arial"/>
                <a:ea typeface="Arial"/>
              </a:rPr>
              <a:t> </a:t>
            </a:r>
            <a:r>
              <a:rPr b="1" lang="sr-RS" sz="2400" spc="-1" strike="noStrike">
                <a:solidFill>
                  <a:srgbClr val="0070c0"/>
                </a:solidFill>
                <a:latin typeface="Calibri"/>
                <a:ea typeface="Arial"/>
              </a:rPr>
              <a:t>коронарних</a:t>
            </a:r>
            <a:r>
              <a:rPr b="1" lang="vi-VN" sz="2400" spc="-1" strike="noStrike">
                <a:solidFill>
                  <a:srgbClr val="0070c0"/>
                </a:solidFill>
                <a:latin typeface="Arial"/>
                <a:ea typeface="Arial"/>
              </a:rPr>
              <a:t> </a:t>
            </a:r>
            <a:r>
              <a:rPr b="1" lang="sr-RS" sz="2400" spc="-1" strike="noStrike">
                <a:solidFill>
                  <a:srgbClr val="0070c0"/>
                </a:solidFill>
                <a:latin typeface="Calibri"/>
                <a:ea typeface="Arial"/>
              </a:rPr>
              <a:t>артерија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- око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  <a:ea typeface="Arial"/>
              </a:rPr>
              <a:t> 14%</a:t>
            </a:r>
            <a:r>
              <a:rPr b="1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70c0"/>
                </a:solidFill>
                <a:latin typeface="Arial"/>
                <a:ea typeface="Arial"/>
              </a:rPr>
              <a:t>М</a:t>
            </a:r>
            <a:r>
              <a:rPr b="1" lang="sr-RS" sz="2400" spc="-1" strike="noStrike">
                <a:solidFill>
                  <a:srgbClr val="0070c0"/>
                </a:solidFill>
                <a:latin typeface="Calibri"/>
                <a:ea typeface="Arial"/>
              </a:rPr>
              <a:t>иокардитис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- око</a:t>
            </a:r>
            <a:r>
              <a:rPr b="1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  <a:ea typeface="Arial"/>
              </a:rPr>
              <a:t>12% 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свих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изненадних</a:t>
            </a:r>
            <a:r>
              <a:rPr b="1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срчаних</a:t>
            </a:r>
            <a:r>
              <a:rPr b="1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смрти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792000" y="692280"/>
            <a:ext cx="7183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000" spc="-1" strike="noStrike">
                <a:solidFill>
                  <a:srgbClr val="ff0000"/>
                </a:solidFill>
                <a:latin typeface="Arial"/>
              </a:rPr>
              <a:t>Фактори</a:t>
            </a:r>
            <a:r>
              <a:rPr b="1" lang="sr-Latn-RS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RS" sz="3000" spc="-1" strike="noStrike">
                <a:solidFill>
                  <a:srgbClr val="ff0000"/>
                </a:solidFill>
                <a:latin typeface="Arial"/>
              </a:rPr>
              <a:t>ризика код</a:t>
            </a:r>
            <a:r>
              <a:rPr b="1" lang="sr-Latn-RS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RS" sz="3000" spc="-1" strike="noStrike">
                <a:solidFill>
                  <a:srgbClr val="ff0000"/>
                </a:solidFill>
                <a:latin typeface="Arial"/>
              </a:rPr>
              <a:t>спортиста</a:t>
            </a:r>
            <a:r>
              <a:rPr b="1" lang="sr-Latn-RS" sz="3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324000" y="1989000"/>
            <a:ext cx="813564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c00000"/>
                </a:solidFill>
                <a:latin typeface="Calibri"/>
              </a:rPr>
              <a:t>Примарна</a:t>
            </a:r>
            <a:r>
              <a:rPr b="1" lang="sr-Latn-RS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c00000"/>
                </a:solidFill>
                <a:latin typeface="Calibri"/>
              </a:rPr>
              <a:t>превенција</a:t>
            </a:r>
            <a:r>
              <a:rPr b="1" lang="sr-Latn-RS" sz="2400" spc="-1" strike="noStrike">
                <a:solidFill>
                  <a:srgbClr val="c00000"/>
                </a:solidFill>
                <a:latin typeface="Calibri"/>
              </a:rPr>
              <a:t>: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детаљни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истематски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контролни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регледи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c00000"/>
                </a:solidFill>
                <a:latin typeface="Calibri"/>
              </a:rPr>
              <a:t>Секундарна</a:t>
            </a:r>
            <a:r>
              <a:rPr b="1" lang="sr-Latn-RS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c00000"/>
                </a:solidFill>
                <a:latin typeface="Calibri"/>
              </a:rPr>
              <a:t>превенција</a:t>
            </a:r>
            <a:r>
              <a:rPr b="1" lang="sr-Latn-RS" sz="2400" spc="-1" strike="noStrike">
                <a:solidFill>
                  <a:srgbClr val="c00000"/>
                </a:solidFill>
                <a:latin typeface="Calibri"/>
              </a:rPr>
              <a:t>: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 набавк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аутоматског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пољашњег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дефибрилатор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оживљавање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 који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може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неким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лучајевим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оново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успостави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нормалну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рчану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радњу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тако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пречи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мрт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изненадног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рестанк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рад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рц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792000" y="692280"/>
            <a:ext cx="7183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000" spc="-1" strike="noStrike">
                <a:solidFill>
                  <a:srgbClr val="ff0000"/>
                </a:solidFill>
                <a:latin typeface="Arial"/>
              </a:rPr>
              <a:t>Превенција</a:t>
            </a:r>
            <a:r>
              <a:rPr b="1" lang="sr-Latn-RS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RS" sz="3000" spc="-1" strike="noStrike">
                <a:solidFill>
                  <a:srgbClr val="ff0000"/>
                </a:solidFill>
                <a:latin typeface="Arial"/>
              </a:rPr>
              <a:t>изненадне</a:t>
            </a:r>
            <a:r>
              <a:rPr b="1" lang="sr-Latn-RS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RS" sz="3000" spc="-1" strike="noStrike">
                <a:solidFill>
                  <a:srgbClr val="ff0000"/>
                </a:solidFill>
                <a:latin typeface="Arial"/>
              </a:rPr>
              <a:t>смрти</a:t>
            </a:r>
            <a:r>
              <a:rPr b="1" lang="sr-Latn-RS" sz="3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sr-RS" sz="3000" spc="-1" strike="noStrike">
                <a:solidFill>
                  <a:srgbClr val="ff0000"/>
                </a:solidFill>
                <a:latin typeface="Arial"/>
              </a:rPr>
              <a:t>спортиста</a:t>
            </a:r>
            <a:r>
              <a:rPr b="1" lang="sr-Latn-RS" sz="3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755640" y="1052640"/>
            <a:ext cx="718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ff0000"/>
                </a:solidFill>
                <a:latin typeface="Arial"/>
              </a:rPr>
              <a:t>Курсеви</a:t>
            </a:r>
            <a:r>
              <a:rPr b="1" lang="sr-Latn-R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RS" sz="3600" spc="-1" strike="noStrike">
                <a:solidFill>
                  <a:srgbClr val="ff0000"/>
                </a:solidFill>
                <a:latin typeface="Arial"/>
              </a:rPr>
              <a:t>реанимациј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7" descr="High Performance CPR - RTS Training"/>
          <p:cNvPicPr/>
          <p:nvPr/>
        </p:nvPicPr>
        <p:blipFill>
          <a:blip r:embed="rId1"/>
          <a:stretch/>
        </p:blipFill>
        <p:spPr>
          <a:xfrm>
            <a:off x="1258920" y="2205000"/>
            <a:ext cx="5854680" cy="3903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26370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Calibri"/>
              </a:rPr>
              <a:t>Хвала на пажњи!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324000" y="1557360"/>
            <a:ext cx="842472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току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вишегодишњег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редовног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бављењ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портом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дешавају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ромене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грађи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рц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мењ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његов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функционалн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пособ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70c0"/>
                </a:solidFill>
                <a:latin typeface="Calibri"/>
              </a:rPr>
              <a:t>Повећава</a:t>
            </a:r>
            <a:r>
              <a:rPr b="1" lang="sr-Latn-RS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70c0"/>
                </a:solidFill>
                <a:latin typeface="Calibri"/>
              </a:rPr>
              <a:t>се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запремин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мас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рчаног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мишић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осебно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леве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коморе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рц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ептум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Ова </a:t>
            </a:r>
            <a:r>
              <a:rPr b="1" lang="sr-RS" sz="2400" spc="-1" strike="noStrike">
                <a:solidFill>
                  <a:srgbClr val="0070c0"/>
                </a:solidFill>
                <a:latin typeface="Calibri"/>
              </a:rPr>
              <a:t>ХИПЕРТРОФИЈА</a:t>
            </a:r>
            <a:r>
              <a:rPr b="1" lang="sr-Latn-RS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70c0"/>
                </a:solidFill>
                <a:latin typeface="Calibri"/>
              </a:rPr>
              <a:t>СРЦА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 код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портист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физичких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радник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је нормалн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ојав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зове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ff0000"/>
                </a:solidFill>
                <a:latin typeface="Calibri"/>
              </a:rPr>
              <a:t>СПОРТСКО</a:t>
            </a:r>
            <a:r>
              <a:rPr b="1" lang="sr-Latn-R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ff0000"/>
                </a:solidFill>
                <a:latin typeface="Calibri"/>
              </a:rPr>
              <a:t>СР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портско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рце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риликом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ваке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контракције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може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рими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већу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количину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крви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воје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шупљине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ту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крв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избаци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циркулацију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То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омогућав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нормално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функционсање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вих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орган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екстремним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условим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какви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току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бављењ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пор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792000" y="692280"/>
            <a:ext cx="718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ff0000"/>
                </a:solidFill>
                <a:latin typeface="Arial"/>
              </a:rPr>
              <a:t>Спортско</a:t>
            </a:r>
            <a:r>
              <a:rPr b="1" lang="sr-Latn-R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RS" sz="3600" spc="-1" strike="noStrike">
                <a:solidFill>
                  <a:srgbClr val="ff0000"/>
                </a:solidFill>
                <a:latin typeface="Arial"/>
              </a:rPr>
              <a:t>срц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0" y="1557360"/>
            <a:ext cx="91440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Calibri"/>
              </a:rPr>
              <a:t>Спортско срце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се дефинише као скуп морфо-функционалних адаптација срца, које се развијају током времена под утицајем тренинг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Заправо, долази до повећања срца у целини, што подразумева повећање срчаних шупљина и дебљине зидова срца, као и смањења срчане фреквенце, а то све доприноси повећаном економичношћу срчаног рада како у миру, тако и у условима физичког оптерећењ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ff0000"/>
                </a:solidFill>
                <a:latin typeface="Calibri"/>
              </a:rPr>
              <a:t>У спортском срцу</a:t>
            </a:r>
            <a:r>
              <a:rPr b="1" lang="sr-Latn-RS" sz="2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RS" sz="2600" spc="-1" strike="noStrike">
                <a:solidFill>
                  <a:srgbClr val="00b050"/>
                </a:solidFill>
                <a:latin typeface="Calibri"/>
              </a:rPr>
              <a:t>РАВНОМЕРНО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се увећава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дебљина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зида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(леве)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коморе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срца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срчане</a:t>
            </a:r>
            <a:r>
              <a:rPr b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преград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826920" y="476280"/>
            <a:ext cx="718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ff0000"/>
                </a:solidFill>
                <a:latin typeface="Arial"/>
              </a:rPr>
              <a:t>Спортско</a:t>
            </a:r>
            <a:r>
              <a:rPr b="1" lang="sr-Latn-R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RS" sz="3600" spc="-1" strike="noStrike">
                <a:solidFill>
                  <a:srgbClr val="ff0000"/>
                </a:solidFill>
                <a:latin typeface="Arial"/>
              </a:rPr>
              <a:t>срц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250920" y="2349360"/>
            <a:ext cx="828180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Ако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задебљање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зид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леве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коморе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70c0"/>
                </a:solidFill>
                <a:latin typeface="Calibri"/>
              </a:rPr>
              <a:t>мање</a:t>
            </a:r>
            <a:r>
              <a:rPr b="1" lang="sr-Latn-RS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70c0"/>
                </a:solidFill>
                <a:latin typeface="Calibri"/>
              </a:rPr>
              <a:t>од</a:t>
            </a:r>
            <a:r>
              <a:rPr b="1" lang="sr-Latn-RS" sz="2400" spc="-1" strike="noStrike">
                <a:solidFill>
                  <a:srgbClr val="0070c0"/>
                </a:solidFill>
                <a:latin typeface="Calibri"/>
              </a:rPr>
              <a:t> 1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6</a:t>
            </a:r>
            <a:r>
              <a:rPr b="1" lang="sr-Latn-RS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mm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ромене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реверзибилне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тј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рестанку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бављењ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портом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око 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3-6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месеци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рчани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мишић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враћ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нормалну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величину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рчан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шупљин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им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нормалну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запреми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Међутим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ако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то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задебљање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ff0000"/>
                </a:solidFill>
                <a:latin typeface="Calibri"/>
              </a:rPr>
              <a:t>веће</a:t>
            </a:r>
            <a:r>
              <a:rPr b="1" lang="sr-Latn-R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ff0000"/>
                </a:solidFill>
                <a:latin typeface="Calibri"/>
              </a:rPr>
              <a:t>од</a:t>
            </a:r>
            <a:r>
              <a:rPr b="1" lang="sr-Latn-RS" sz="2400" spc="-1" strike="noStrike">
                <a:solidFill>
                  <a:srgbClr val="ff0000"/>
                </a:solidFill>
                <a:latin typeface="Calibri"/>
              </a:rPr>
              <a:t> 1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6</a:t>
            </a:r>
            <a:r>
              <a:rPr b="1" lang="sr-Latn-R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mm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онд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ради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болесном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рцу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тад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ff0000"/>
                </a:solidFill>
                <a:latin typeface="Calibri"/>
              </a:rPr>
              <a:t>хипертрофија</a:t>
            </a:r>
            <a:r>
              <a:rPr b="1" lang="sr-Latn-R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ff0000"/>
                </a:solidFill>
                <a:latin typeface="Calibri"/>
              </a:rPr>
              <a:t>прелази</a:t>
            </a:r>
            <a:r>
              <a:rPr b="1" lang="sr-Latn-R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ff0000"/>
                </a:solidFill>
                <a:latin typeface="Calibri"/>
              </a:rPr>
              <a:t>у</a:t>
            </a:r>
            <a:r>
              <a:rPr b="1" lang="sr-Latn-R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ff0000"/>
                </a:solidFill>
                <a:latin typeface="Calibri"/>
              </a:rPr>
              <a:t>миокардиопатију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sr-RS" sz="2400" spc="-1" strike="noStrike" u="sng">
                <a:solidFill>
                  <a:srgbClr val="000000"/>
                </a:solidFill>
                <a:uFillTx/>
                <a:latin typeface="Calibri"/>
              </a:rPr>
              <a:t>која</a:t>
            </a:r>
            <a:r>
              <a:rPr b="1" lang="sr-Latn-R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sr-RS" sz="2400" spc="-1" strike="noStrike" u="sng">
                <a:solidFill>
                  <a:srgbClr val="000000"/>
                </a:solidFill>
                <a:uFillTx/>
                <a:latin typeface="Calibri"/>
              </a:rPr>
              <a:t>је</a:t>
            </a:r>
            <a:r>
              <a:rPr b="1" lang="sr-Latn-R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sr-RS" sz="2400" spc="-1" strike="noStrike" u="sng">
                <a:solidFill>
                  <a:srgbClr val="000000"/>
                </a:solidFill>
                <a:uFillTx/>
                <a:latin typeface="Calibri"/>
              </a:rPr>
              <a:t>патолошко</a:t>
            </a:r>
            <a:r>
              <a:rPr b="1" lang="sr-Latn-RS" sz="2400" spc="-1" strike="noStrike" u="sng">
                <a:solidFill>
                  <a:srgbClr val="000000"/>
                </a:solidFill>
                <a:uFillTx/>
                <a:latin typeface="Calibri"/>
              </a:rPr>
              <a:t> (</a:t>
            </a:r>
            <a:r>
              <a:rPr b="1" lang="sr-RS" sz="2400" spc="-1" strike="noStrike" u="sng">
                <a:solidFill>
                  <a:srgbClr val="000000"/>
                </a:solidFill>
                <a:uFillTx/>
                <a:latin typeface="Calibri"/>
              </a:rPr>
              <a:t>болесно</a:t>
            </a:r>
            <a:r>
              <a:rPr b="1" lang="sr-Latn-RS" sz="2400" spc="-1" strike="noStrike" u="sng">
                <a:solidFill>
                  <a:srgbClr val="000000"/>
                </a:solidFill>
                <a:uFillTx/>
                <a:latin typeface="Calibri"/>
              </a:rPr>
              <a:t>) </a:t>
            </a:r>
            <a:r>
              <a:rPr b="1" lang="sr-RS" sz="2400" spc="-1" strike="noStrike" u="sng">
                <a:solidFill>
                  <a:srgbClr val="000000"/>
                </a:solidFill>
                <a:uFillTx/>
                <a:latin typeface="Calibri"/>
              </a:rPr>
              <a:t>стање</a:t>
            </a:r>
            <a:r>
              <a:rPr b="1" lang="sr-Latn-R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sr-RS" sz="2400" spc="-1" strike="noStrike" u="sng">
                <a:solidFill>
                  <a:srgbClr val="000000"/>
                </a:solidFill>
                <a:uFillTx/>
                <a:latin typeface="Calibri"/>
              </a:rPr>
              <a:t>срца</a:t>
            </a:r>
            <a:r>
              <a:rPr b="1" lang="sr-Latn-R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826920" y="981000"/>
            <a:ext cx="718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ff0000"/>
                </a:solidFill>
                <a:latin typeface="Arial"/>
              </a:rPr>
              <a:t>Спортско</a:t>
            </a:r>
            <a:r>
              <a:rPr b="1" lang="sr-Latn-R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RS" sz="3600" spc="-1" strike="noStrike">
                <a:solidFill>
                  <a:srgbClr val="ff0000"/>
                </a:solidFill>
                <a:latin typeface="Arial"/>
              </a:rPr>
              <a:t>срц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395280" y="1700280"/>
            <a:ext cx="856944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Већин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активних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портист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им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ff0000"/>
                </a:solidFill>
                <a:latin typeface="Calibri"/>
              </a:rPr>
              <a:t>Спортско</a:t>
            </a:r>
            <a:r>
              <a:rPr b="1" lang="sr-Latn-R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ff0000"/>
                </a:solidFill>
                <a:latin typeface="Calibri"/>
              </a:rPr>
              <a:t>срце</a:t>
            </a:r>
            <a:r>
              <a:rPr b="1" lang="sr-Latn-RS" sz="2400" spc="-1" strike="noStrike">
                <a:solidFill>
                  <a:srgbClr val="ff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b050"/>
                </a:solidFill>
                <a:latin typeface="Calibri"/>
              </a:rPr>
              <a:t>СПОРТСКО</a:t>
            </a:r>
            <a:r>
              <a:rPr b="1" lang="sr-Latn-RS" sz="24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b050"/>
                </a:solidFill>
                <a:latin typeface="Calibri"/>
              </a:rPr>
              <a:t>СРЦЕ</a:t>
            </a:r>
            <a:r>
              <a:rPr b="1" lang="sr-Latn-RS" sz="24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b050"/>
                </a:solidFill>
                <a:latin typeface="Calibri"/>
              </a:rPr>
              <a:t>ЈЕ</a:t>
            </a:r>
            <a:r>
              <a:rPr b="1" lang="sr-Latn-RS" sz="24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b050"/>
                </a:solidFill>
                <a:latin typeface="Calibri"/>
              </a:rPr>
              <a:t>НОРМАЛНА</a:t>
            </a:r>
            <a:r>
              <a:rPr b="1" lang="sr-Latn-RS" sz="2400" spc="-1" strike="noStrike">
                <a:solidFill>
                  <a:srgbClr val="00b050"/>
                </a:solidFill>
                <a:latin typeface="Calibri"/>
              </a:rPr>
              <a:t>, </a:t>
            </a:r>
            <a:r>
              <a:rPr b="1" lang="sr-RS" sz="2400" spc="-1" strike="noStrike">
                <a:solidFill>
                  <a:srgbClr val="00b050"/>
                </a:solidFill>
                <a:latin typeface="Calibri"/>
              </a:rPr>
              <a:t>ФИЗИОЛОШКА</a:t>
            </a:r>
            <a:r>
              <a:rPr b="1" lang="sr-Latn-RS" sz="24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b050"/>
                </a:solidFill>
                <a:latin typeface="Calibri"/>
              </a:rPr>
              <a:t>ПОЈАВ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али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временом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може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рећи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болесно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тање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које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назив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ff0000"/>
                </a:solidFill>
                <a:latin typeface="Calibri"/>
              </a:rPr>
              <a:t>МИОКАРДИОПАТИЈА</a:t>
            </a:r>
            <a:r>
              <a:rPr b="1" lang="sr-Latn-RS" sz="2400" spc="-1" strike="noStrike">
                <a:solidFill>
                  <a:srgbClr val="ff0000"/>
                </a:solidFill>
                <a:latin typeface="Calibri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Код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особ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које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имају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ПОРТСКО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РЦЕ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МИОКАРДИОПАТИЈ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најчешће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развије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ледећ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дв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лучај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Ако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особе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имају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70c0"/>
                </a:solidFill>
                <a:latin typeface="Calibri"/>
              </a:rPr>
              <a:t>генетску</a:t>
            </a:r>
            <a:r>
              <a:rPr b="1" lang="sr-Latn-RS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70c0"/>
                </a:solidFill>
                <a:latin typeface="Calibri"/>
              </a:rPr>
              <a:t>склоност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развој миокардиопатије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Ако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особе у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току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живот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реболе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упалу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70c0"/>
                </a:solidFill>
                <a:latin typeface="Calibri"/>
              </a:rPr>
              <a:t>миокардит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Миокардиопатиј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развиј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код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2%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портист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портским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рцем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792000" y="692280"/>
            <a:ext cx="718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ff0000"/>
                </a:solidFill>
                <a:latin typeface="Arial"/>
              </a:rPr>
              <a:t>Спортско</a:t>
            </a:r>
            <a:r>
              <a:rPr b="1" lang="sr-Latn-R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RS" sz="3600" spc="-1" strike="noStrike">
                <a:solidFill>
                  <a:srgbClr val="ff0000"/>
                </a:solidFill>
                <a:latin typeface="Arial"/>
              </a:rPr>
              <a:t>срц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324000" y="1557360"/>
            <a:ext cx="765144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Код</a:t>
            </a:r>
            <a:r>
              <a:rPr b="1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малог</a:t>
            </a:r>
            <a:r>
              <a:rPr b="1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броја</a:t>
            </a:r>
            <a:r>
              <a:rPr b="1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спортиста</a:t>
            </a:r>
            <a:r>
              <a:rPr b="1" lang="sr-Latn-RS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1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имају</a:t>
            </a:r>
            <a:r>
              <a:rPr b="1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генетски</a:t>
            </a:r>
            <a:r>
              <a:rPr b="1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поремећај</a:t>
            </a:r>
            <a:r>
              <a:rPr b="1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1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1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преболовали</a:t>
            </a:r>
            <a:r>
              <a:rPr b="1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миокардитис</a:t>
            </a:r>
            <a:r>
              <a:rPr b="1" lang="sr-Latn-RS" sz="2200" spc="-1" strike="noStrike">
                <a:solidFill>
                  <a:srgbClr val="000000"/>
                </a:solidFill>
                <a:latin typeface="Calibri"/>
              </a:rPr>
              <a:t>,  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спортско</a:t>
            </a:r>
            <a:r>
              <a:rPr b="1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срце</a:t>
            </a:r>
            <a:r>
              <a:rPr b="1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из</a:t>
            </a:r>
            <a:r>
              <a:rPr b="1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нормалног</a:t>
            </a:r>
            <a:r>
              <a:rPr b="1" lang="sr-Latn-RS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физиолошког</a:t>
            </a:r>
            <a:r>
              <a:rPr b="1" lang="sr-Latn-RS" sz="2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облика</a:t>
            </a:r>
            <a:r>
              <a:rPr b="1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прелази</a:t>
            </a:r>
            <a:r>
              <a:rPr b="1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болесно</a:t>
            </a:r>
            <a:r>
              <a:rPr b="1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срце</a:t>
            </a:r>
            <a:r>
              <a:rPr b="1" lang="sr-Latn-RS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такозвану</a:t>
            </a:r>
            <a:r>
              <a:rPr b="1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200" spc="-1" strike="noStrike">
                <a:solidFill>
                  <a:srgbClr val="c00000"/>
                </a:solidFill>
                <a:latin typeface="Calibri"/>
              </a:rPr>
              <a:t>ХИПЕРТРОФИЧНУ</a:t>
            </a:r>
            <a:r>
              <a:rPr b="1" lang="sr-Latn-RS" sz="2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sr-RS" sz="2200" spc="-1" strike="noStrike">
                <a:solidFill>
                  <a:srgbClr val="c00000"/>
                </a:solidFill>
                <a:latin typeface="Calibri"/>
              </a:rPr>
              <a:t>МИОКАРДИОПАТИЈУ</a:t>
            </a:r>
            <a:r>
              <a:rPr b="1" lang="sr-Latn-RS" sz="2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70c0"/>
                </a:solidFill>
                <a:latin typeface="Calibri"/>
              </a:rPr>
              <a:t>То</a:t>
            </a:r>
            <a:r>
              <a:rPr b="1" lang="sr-Latn-RS" sz="2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sr-RS" sz="2200" spc="-1" strike="noStrike">
                <a:solidFill>
                  <a:srgbClr val="0070c0"/>
                </a:solidFill>
                <a:latin typeface="Calibri"/>
              </a:rPr>
              <a:t>је</a:t>
            </a:r>
            <a:r>
              <a:rPr b="1" lang="sr-Latn-RS" sz="2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sr-RS" sz="2200" spc="-1" strike="noStrike">
                <a:solidFill>
                  <a:srgbClr val="0070c0"/>
                </a:solidFill>
                <a:latin typeface="Calibri"/>
              </a:rPr>
              <a:t>претерано</a:t>
            </a:r>
            <a:r>
              <a:rPr b="1" lang="sr-Latn-RS" sz="2200" spc="-1" strike="noStrike">
                <a:solidFill>
                  <a:srgbClr val="0070c0"/>
                </a:solidFill>
                <a:latin typeface="Calibri"/>
              </a:rPr>
              <a:t>, </a:t>
            </a:r>
            <a:r>
              <a:rPr b="1" lang="sr-RS" sz="2200" spc="-1" strike="noStrike">
                <a:solidFill>
                  <a:srgbClr val="0070c0"/>
                </a:solidFill>
                <a:latin typeface="Calibri"/>
              </a:rPr>
              <a:t>несиметрично</a:t>
            </a:r>
            <a:r>
              <a:rPr b="1" lang="sr-Latn-RS" sz="2200" spc="-1" strike="noStrike">
                <a:solidFill>
                  <a:srgbClr val="0070c0"/>
                </a:solidFill>
                <a:latin typeface="Calibri"/>
              </a:rPr>
              <a:t>, </a:t>
            </a:r>
            <a:r>
              <a:rPr b="1" lang="sr-RS" sz="2200" spc="-1" strike="noStrike">
                <a:solidFill>
                  <a:srgbClr val="0070c0"/>
                </a:solidFill>
                <a:latin typeface="Calibri"/>
              </a:rPr>
              <a:t>непропорционално</a:t>
            </a:r>
            <a:r>
              <a:rPr b="1" lang="sr-Latn-RS" sz="2200" spc="-1" strike="noStrike">
                <a:solidFill>
                  <a:srgbClr val="0070c0"/>
                </a:solidFill>
                <a:latin typeface="Calibri"/>
              </a:rPr>
              <a:t>, </a:t>
            </a:r>
            <a:r>
              <a:rPr b="1" lang="sr-RS" sz="2200" spc="-1" strike="noStrike">
                <a:solidFill>
                  <a:srgbClr val="0070c0"/>
                </a:solidFill>
                <a:latin typeface="Calibri"/>
              </a:rPr>
              <a:t>патолошко</a:t>
            </a:r>
            <a:r>
              <a:rPr b="1" lang="sr-Latn-RS" sz="2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sr-RS" sz="2200" spc="-1" strike="noStrike">
                <a:solidFill>
                  <a:srgbClr val="0070c0"/>
                </a:solidFill>
                <a:latin typeface="Calibri"/>
              </a:rPr>
              <a:t>повећање</a:t>
            </a:r>
            <a:r>
              <a:rPr b="1" lang="sr-Latn-RS" sz="2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sr-RS" sz="2200" spc="-1" strike="noStrike">
                <a:solidFill>
                  <a:srgbClr val="0070c0"/>
                </a:solidFill>
                <a:latin typeface="Calibri"/>
              </a:rPr>
              <a:t>дебљине</a:t>
            </a:r>
            <a:r>
              <a:rPr b="1" lang="sr-Latn-RS" sz="2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sr-RS" sz="2200" spc="-1" strike="noStrike">
                <a:solidFill>
                  <a:srgbClr val="0070c0"/>
                </a:solidFill>
                <a:latin typeface="Calibri"/>
              </a:rPr>
              <a:t>срчаних</a:t>
            </a:r>
            <a:r>
              <a:rPr b="1" lang="sr-Latn-RS" sz="2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sr-RS" sz="2200" spc="-1" strike="noStrike">
                <a:solidFill>
                  <a:srgbClr val="0070c0"/>
                </a:solidFill>
                <a:latin typeface="Calibri"/>
              </a:rPr>
              <a:t>зидова</a:t>
            </a:r>
            <a:r>
              <a:rPr b="1" lang="sr-Latn-RS" sz="2200" spc="-1" strike="noStrike">
                <a:solidFill>
                  <a:srgbClr val="0070c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њему</a:t>
            </a:r>
            <a:r>
              <a:rPr b="1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зид</a:t>
            </a:r>
            <a:r>
              <a:rPr b="1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леве</a:t>
            </a:r>
            <a:r>
              <a:rPr b="1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коморе</a:t>
            </a:r>
            <a:r>
              <a:rPr b="1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зид</a:t>
            </a:r>
            <a:r>
              <a:rPr b="1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срчане</a:t>
            </a:r>
            <a:r>
              <a:rPr b="1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преграде</a:t>
            </a:r>
            <a:r>
              <a:rPr b="1" lang="sr-Latn-RS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септума</a:t>
            </a:r>
            <a:r>
              <a:rPr b="1" lang="sr-Latn-RS" sz="2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дебљи</a:t>
            </a:r>
            <a:r>
              <a:rPr b="1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1" lang="sr-Latn-RS" sz="2200" spc="-1" strike="noStrike">
                <a:solidFill>
                  <a:srgbClr val="000000"/>
                </a:solidFill>
                <a:latin typeface="Calibri"/>
              </a:rPr>
              <a:t> 1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мм</a:t>
            </a:r>
            <a:r>
              <a:rPr b="1" lang="sr-Latn-RS" sz="2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Задебљање</a:t>
            </a:r>
            <a:r>
              <a:rPr b="1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срчаног</a:t>
            </a:r>
            <a:r>
              <a:rPr b="1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мишића</a:t>
            </a:r>
            <a:r>
              <a:rPr b="1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1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1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шири</a:t>
            </a:r>
            <a:r>
              <a:rPr b="1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споља</a:t>
            </a:r>
            <a:r>
              <a:rPr b="1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него</a:t>
            </a:r>
            <a:r>
              <a:rPr b="1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УНУТРА</a:t>
            </a:r>
            <a:r>
              <a:rPr b="1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тако</a:t>
            </a:r>
            <a:r>
              <a:rPr b="1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200" spc="-1" strike="noStrike">
                <a:solidFill>
                  <a:srgbClr val="0070c0"/>
                </a:solidFill>
                <a:latin typeface="Calibri"/>
              </a:rPr>
              <a:t>смањује</a:t>
            </a:r>
            <a:r>
              <a:rPr b="1" lang="sr-Latn-RS" sz="2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sr-RS" sz="2200" spc="-1" strike="noStrike">
                <a:solidFill>
                  <a:srgbClr val="0070c0"/>
                </a:solidFill>
                <a:latin typeface="Calibri"/>
              </a:rPr>
              <a:t>запремину</a:t>
            </a:r>
            <a:r>
              <a:rPr b="1" lang="sr-Latn-RS" sz="2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sr-RS" sz="2200" spc="-1" strike="noStrike">
                <a:solidFill>
                  <a:srgbClr val="0070c0"/>
                </a:solidFill>
                <a:latin typeface="Calibri"/>
              </a:rPr>
              <a:t>леве</a:t>
            </a:r>
            <a:r>
              <a:rPr b="1" lang="sr-Latn-RS" sz="2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sr-RS" sz="2200" spc="-1" strike="noStrike">
                <a:solidFill>
                  <a:srgbClr val="0070c0"/>
                </a:solidFill>
                <a:latin typeface="Calibri"/>
              </a:rPr>
              <a:t>срчане</a:t>
            </a:r>
            <a:r>
              <a:rPr b="1" lang="sr-Latn-RS" sz="2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sr-RS" sz="2200" spc="-1" strike="noStrike">
                <a:solidFill>
                  <a:srgbClr val="0070c0"/>
                </a:solidFill>
                <a:latin typeface="Calibri"/>
              </a:rPr>
              <a:t>коморе</a:t>
            </a:r>
            <a:r>
              <a:rPr b="1" lang="sr-Latn-R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Због</a:t>
            </a:r>
            <a:r>
              <a:rPr b="1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тога</a:t>
            </a:r>
            <a:r>
              <a:rPr b="1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1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смањује</a:t>
            </a:r>
            <a:r>
              <a:rPr b="1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количина</a:t>
            </a:r>
            <a:r>
              <a:rPr b="1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крви</a:t>
            </a:r>
            <a:r>
              <a:rPr b="1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која</a:t>
            </a:r>
            <a:r>
              <a:rPr b="1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може</a:t>
            </a:r>
            <a:r>
              <a:rPr b="1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1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уђе</a:t>
            </a:r>
            <a:r>
              <a:rPr b="1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срце</a:t>
            </a:r>
            <a:r>
              <a:rPr b="1" lang="sr-Latn-RS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смањује</a:t>
            </a:r>
            <a:r>
              <a:rPr b="1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1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количина</a:t>
            </a:r>
            <a:r>
              <a:rPr b="1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крви</a:t>
            </a:r>
            <a:r>
              <a:rPr b="1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коју</a:t>
            </a:r>
            <a:r>
              <a:rPr b="1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срце</a:t>
            </a:r>
            <a:r>
              <a:rPr b="1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испумпа</a:t>
            </a:r>
            <a:r>
              <a:rPr b="1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крвне</a:t>
            </a:r>
            <a:r>
              <a:rPr b="1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судове</a:t>
            </a:r>
            <a:r>
              <a:rPr b="1" lang="sr-Latn-RS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1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тиме</a:t>
            </a:r>
            <a:r>
              <a:rPr b="1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1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смањује</a:t>
            </a:r>
            <a:r>
              <a:rPr b="1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снабдевање</a:t>
            </a:r>
            <a:r>
              <a:rPr b="1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организма</a:t>
            </a:r>
            <a:r>
              <a:rPr b="1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крвљу</a:t>
            </a:r>
            <a:r>
              <a:rPr b="1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кисеоником</a:t>
            </a:r>
            <a:r>
              <a:rPr b="1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настају</a:t>
            </a:r>
            <a:r>
              <a:rPr b="1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озбиљни</a:t>
            </a:r>
            <a:r>
              <a:rPr b="1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здравствени</a:t>
            </a:r>
            <a:r>
              <a:rPr b="1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проблеми</a:t>
            </a:r>
            <a:r>
              <a:rPr b="1" lang="sr-Latn-R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826920" y="476280"/>
            <a:ext cx="71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Хипертрофична</a:t>
            </a:r>
            <a:r>
              <a:rPr b="1" lang="sr-Latn-R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миокардиопатија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Latn-R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954000" y="1557360"/>
            <a:ext cx="702144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792000" y="692280"/>
            <a:ext cx="718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Нормално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спортско</a:t>
            </a:r>
            <a:r>
              <a:rPr b="1" lang="sr-Latn-R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срце</a:t>
            </a:r>
            <a:r>
              <a:rPr b="1" lang="sr-Latn-R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sr-Latn-R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хипертрофична</a:t>
            </a:r>
            <a:r>
              <a:rPr b="1" lang="sr-Latn-R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миокардиопат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332000" y="1828800"/>
            <a:ext cx="6048360" cy="5029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2T17:59:30Z</dcterms:created>
  <dc:creator>Vlada Zivkovic</dc:creator>
  <dc:description/>
  <dc:language>en-US</dc:language>
  <cp:lastModifiedBy>x</cp:lastModifiedBy>
  <dcterms:modified xsi:type="dcterms:W3CDTF">2024-02-22T19:22:13Z</dcterms:modified>
  <cp:revision>442</cp:revision>
  <dc:subject/>
  <dc:title>Slide 1</dc:title>
</cp:coreProperties>
</file>